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0505-C30B-46DC-B3D0-8FB64226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9BB-13B4-421A-A5DB-C861186C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863-F570-480D-A1E1-88EC507B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9C3-CD00-4A73-9B5D-F38240C3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D89-F7CC-44C5-946A-16B1F505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64D-8D7E-4A07-81D0-AB24C693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BE47-1B61-4D3A-8610-0B5ECC37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60D-632E-4A48-80FF-2E7C41AC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0C7-05B2-445E-9443-761CE83B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F6F-E69E-4714-BF0E-48BCFC81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6C1-C24A-4D33-A853-F0035FB1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877-0F6A-4680-A26F-E45B44B0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297C-35CF-44DA-B694-EB71C976F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22160" y="493560"/>
          <a:ext cx="8025120" cy="606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493560"/>
                    <a:ext cx="8025120" cy="60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88880" y="438120"/>
          <a:ext cx="8379000" cy="680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438120"/>
                    <a:ext cx="8379000" cy="680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88880" y="438120"/>
          <a:ext cx="8604360" cy="67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438120"/>
                    <a:ext cx="8604360" cy="67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76200" y="388800"/>
          <a:ext cx="8680320" cy="622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88800"/>
                    <a:ext cx="8680320" cy="622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76200" y="399960"/>
          <a:ext cx="8729640" cy="790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99960"/>
                    <a:ext cx="8729640" cy="79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12920" y="399960"/>
          <a:ext cx="8731080" cy="790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399960"/>
                    <a:ext cx="8731080" cy="79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890640" y="433440"/>
          <a:ext cx="7792920" cy="638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433440"/>
                    <a:ext cx="7792920" cy="63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44680" y="469800"/>
          <a:ext cx="846108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469800"/>
                    <a:ext cx="846108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46120" y="474840"/>
          <a:ext cx="8265960" cy="74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74840"/>
                    <a:ext cx="8265960" cy="74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7440" y="426960"/>
          <a:ext cx="8383680" cy="67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426960"/>
                    <a:ext cx="838368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76280" y="399960"/>
          <a:ext cx="8191440" cy="65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99960"/>
                    <a:ext cx="8191440" cy="65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12920" y="412920"/>
          <a:ext cx="8467560" cy="71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412920"/>
                    <a:ext cx="8467560" cy="71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691200"/>
            <a:ext cx="89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Leer desde (posición del cursor de)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un máximo de N lín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ntregar también nº de líneas leí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erLi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ufferedReader archivo, String[]lineas, int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n&lt;N &amp;&amp; (linea=archivo.readLine())!=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as[n++] =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9960" y="399960"/>
          <a:ext cx="860580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99960"/>
                    <a:ext cx="860580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9960" y="399960"/>
          <a:ext cx="85060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99960"/>
                    <a:ext cx="85060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782640" y="601560"/>
          <a:ext cx="7904160" cy="604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601560"/>
                    <a:ext cx="79041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14440" y="450720"/>
          <a:ext cx="829152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50720"/>
                    <a:ext cx="829152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76280" y="450720"/>
          <a:ext cx="8291520" cy="64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29152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6:08:35Z</dcterms:created>
  <dc:creator>jalvarez</dc:creator>
  <dc:description/>
  <dc:language>en-US</dc:language>
  <cp:lastModifiedBy>jalvarez</cp:lastModifiedBy>
  <cp:lastPrinted>2006-06-20T14:58:23Z</cp:lastPrinted>
  <dcterms:modified xsi:type="dcterms:W3CDTF">2009-06-23T13:46:39Z</dcterms:modified>
  <cp:revision>40</cp:revision>
  <dc:subject/>
  <dc:title>Sin título de diapositiva</dc:title>
</cp:coreProperties>
</file>