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9B5-3086-49D3-AD9D-E1DD3570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1D0-CD92-4F55-A35C-47BBCED7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6B7-9106-4EA6-85A2-D7A8B84F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2F80-08D3-4C1D-B775-75CB93C7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2EC-35DE-4BD8-B0D8-4714DD6D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99E-5309-4065-ACB6-C18F2F59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4368-815D-4FDF-9FEC-264CD815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709-6945-4A83-856D-FB52A68C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053-9973-4FE0-B17F-69DB6609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790-66CC-4EC2-BCCE-E66A6B9E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E83-923B-4F39-8618-F1A9EDCB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9DF-FF9F-4220-8145-3F237577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239F-41CB-42DF-BAB7-DA54613C5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22160" y="493560"/>
          <a:ext cx="8025120" cy="60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493560"/>
                    <a:ext cx="8025120" cy="60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88880" y="438120"/>
          <a:ext cx="8379000" cy="680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438120"/>
                    <a:ext cx="8379000" cy="680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88880" y="438120"/>
          <a:ext cx="8604360" cy="67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438120"/>
                    <a:ext cx="8604360" cy="67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76200" y="388800"/>
          <a:ext cx="8680320" cy="622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88800"/>
                    <a:ext cx="8680320" cy="62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76200" y="399960"/>
          <a:ext cx="8729640" cy="790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99960"/>
                    <a:ext cx="8729640" cy="79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12920" y="399960"/>
          <a:ext cx="8731080" cy="790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399960"/>
                    <a:ext cx="8731080" cy="79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890640" y="433440"/>
          <a:ext cx="7792920" cy="63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433440"/>
                    <a:ext cx="7792920" cy="63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44680" y="469800"/>
          <a:ext cx="846108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469800"/>
                    <a:ext cx="846108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46120" y="474840"/>
          <a:ext cx="8265960" cy="74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74840"/>
                    <a:ext cx="8265960" cy="74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7440" y="426960"/>
          <a:ext cx="8383680" cy="67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426960"/>
                    <a:ext cx="838368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76280" y="399960"/>
          <a:ext cx="8191440" cy="65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99960"/>
                    <a:ext cx="819144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12920" y="412920"/>
          <a:ext cx="8467560" cy="71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412920"/>
                    <a:ext cx="8467560" cy="71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691200"/>
            <a:ext cx="89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Leer desde (posición del cursor de)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un máximo de N lín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ntregar también nº de líneas leí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er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ufferedReader archivo, String[]lineas, int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n&lt;N &amp;&amp; (linea=archivo.readLine())!=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as[n++] =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9960" y="399960"/>
          <a:ext cx="860580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99960"/>
                    <a:ext cx="860580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9960" y="399960"/>
          <a:ext cx="85060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99960"/>
                    <a:ext cx="85060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82640" y="601560"/>
          <a:ext cx="7904160" cy="60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601560"/>
                    <a:ext cx="79041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14440" y="450720"/>
          <a:ext cx="829152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50720"/>
                    <a:ext cx="829152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76280" y="450720"/>
          <a:ext cx="8291520" cy="64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29152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6:08:35Z</dcterms:created>
  <dc:creator>jalvarez</dc:creator>
  <dc:description/>
  <dc:language>en-US</dc:language>
  <cp:lastModifiedBy>jalvarez</cp:lastModifiedBy>
  <cp:lastPrinted>2006-06-20T14:58:23Z</cp:lastPrinted>
  <dcterms:modified xsi:type="dcterms:W3CDTF">2009-06-23T13:46:39Z</dcterms:modified>
  <cp:revision>40</cp:revision>
  <dc:subject/>
  <dc:title>Sin título de diapositiva</dc:title>
</cp:coreProperties>
</file>