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2.wmf" ContentType="image/x-wmf"/>
  <Override PartName="/ppt/media/image13.wmf" ContentType="image/x-wmf"/>
  <Override PartName="/ppt/media/image8.wmf" ContentType="image/x-wmf"/>
  <Override PartName="/ppt/media/image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pct" ContentType="image/x-pict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25: Arbol Binario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E68C-2388-42A4-8351-2B3CAF97B3F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25: Arbol Binario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0A86-FB21-4F49-9851-ADFDF326AE0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25: Arbol Binario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A93E-549E-48C6-8025-B46263D99A6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A60-52A7-4786-844A-C11B27B8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BAE-C6F2-4B0E-A640-F2FC599C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B6D-00F2-4B0E-8E31-47CB9041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1BE-104B-4AFB-813C-7611CC44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A60-1FA8-4BC3-A75C-46A972AA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032D-DD42-407F-B4E6-A67129C6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74B-18A3-4C18-8F0C-7018CB04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001-A025-4204-B887-FF2BEF15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9F4-B0AA-4174-B0F5-067FD951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94A0-0499-4AD6-BF89-842E10B9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B53-D83B-47F6-93F8-65CD74E5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738-58CE-48C1-87C9-9695E146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9546-7E76-48EE-ABAA-28BA7713F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69800" y="531720"/>
          <a:ext cx="854892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1720"/>
                    <a:ext cx="854892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71520" y="668160"/>
          <a:ext cx="838656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668160"/>
                    <a:ext cx="838656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68160" y="581040"/>
          <a:ext cx="820116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81040"/>
                    <a:ext cx="820116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68160" y="593640"/>
          <a:ext cx="8201160" cy="59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93640"/>
                    <a:ext cx="8201160" cy="59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42960" y="531720"/>
          <a:ext cx="832500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31720"/>
                    <a:ext cx="832500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2760" y="482760"/>
          <a:ext cx="8461080" cy="65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61080" cy="65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68440" y="655560"/>
          <a:ext cx="8226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55560"/>
                    <a:ext cx="8226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766800" y="766800"/>
          <a:ext cx="81025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66800"/>
                    <a:ext cx="81025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531720" y="469800"/>
          <a:ext cx="84614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69800"/>
                    <a:ext cx="84614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92280" y="704880"/>
          <a:ext cx="82026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04880"/>
                    <a:ext cx="82026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82760" y="506520"/>
          <a:ext cx="836136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06520"/>
                    <a:ext cx="8361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95360" y="60660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60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95280" y="457200"/>
          <a:ext cx="862344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57200"/>
                    <a:ext cx="862344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44680" y="531720"/>
          <a:ext cx="846108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46108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81120" y="457200"/>
          <a:ext cx="82868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457200"/>
                    <a:ext cx="82868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54120" y="1174680"/>
          <a:ext cx="7872480" cy="48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1174680"/>
                    <a:ext cx="7872480" cy="48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19200" y="506520"/>
          <a:ext cx="834876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06520"/>
                    <a:ext cx="83487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06520" y="544680"/>
          <a:ext cx="838836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44680"/>
                    <a:ext cx="838836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6:05:38Z</dcterms:created>
  <dc:creator>jalvarez</dc:creator>
  <dc:description/>
  <dc:language>en-US</dc:language>
  <cp:lastModifiedBy>Victor Ramiro</cp:lastModifiedBy>
  <cp:lastPrinted>2006-08-11T14:25:28Z</cp:lastPrinted>
  <dcterms:modified xsi:type="dcterms:W3CDTF">2010-07-06T19:43:45Z</dcterms:modified>
  <cp:revision>21</cp:revision>
  <dc:subject/>
  <dc:title>Sin título de diapositiva</dc:title>
</cp:coreProperties>
</file>