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2.wmf" ContentType="image/x-wmf"/>
  <Override PartName="/ppt/media/image13.wmf" ContentType="image/x-wmf"/>
  <Override PartName="/ppt/media/image8.wmf" ContentType="image/x-wmf"/>
  <Override PartName="/ppt/media/image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pct" ContentType="image/x-pict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247-2DA5-43AF-8267-AC9864FD67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3749-FA86-4799-A2EF-A35E015420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25: Arbol Binario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F8D2-4C0A-4613-B392-DB403F6E1F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0A48-8F56-4AA8-8FF8-E50420D5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B68-CE82-4924-AB1D-62E2A5A2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050-B827-4C9F-8F9F-8EF120B3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CF6-353D-4F4D-B249-A2A60281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580-7E1A-47E8-AE87-5520E414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1EA-2180-46F0-81C5-BE9C8AF9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9A0-B7C5-476D-ADAE-16C44C4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D79-EB52-4F5A-83F3-66F2339F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7F3-0D6E-4AD3-8126-64D7064A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9B7-8D6C-48AE-AE28-9EF2550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6FC-4CD1-4222-95F2-095A0791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B9D-2E6C-42F5-9FF3-2BCE6399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3D19-D77D-472F-91F1-151A8FA23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69800" y="531720"/>
          <a:ext cx="854892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31720"/>
                    <a:ext cx="854892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71520" y="668160"/>
          <a:ext cx="838656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68160"/>
                    <a:ext cx="838656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68160" y="581040"/>
          <a:ext cx="820116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81040"/>
                    <a:ext cx="82011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668160" y="593640"/>
          <a:ext cx="8201160" cy="59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93640"/>
                    <a:ext cx="8201160" cy="59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42960" y="531720"/>
          <a:ext cx="832500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31720"/>
                    <a:ext cx="832500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2760" y="482760"/>
          <a:ext cx="8461080" cy="650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61080" cy="65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68440" y="655560"/>
          <a:ext cx="8226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655560"/>
                    <a:ext cx="8226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766800" y="766800"/>
          <a:ext cx="8102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766800"/>
                    <a:ext cx="8102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1720" y="469800"/>
          <a:ext cx="84614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469800"/>
                    <a:ext cx="84614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92280" y="704880"/>
          <a:ext cx="82026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704880"/>
                    <a:ext cx="82026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82760" y="506520"/>
          <a:ext cx="8361360" cy="62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06520"/>
                    <a:ext cx="83613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5360" y="60660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0660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457200"/>
          <a:ext cx="862344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57200"/>
                    <a:ext cx="862344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544680" y="531720"/>
          <a:ext cx="8461080" cy="598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461080" cy="59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81120" y="457200"/>
          <a:ext cx="82868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57200"/>
                    <a:ext cx="82868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54120" y="1174680"/>
          <a:ext cx="7872480" cy="48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1174680"/>
                    <a:ext cx="787248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19200" y="506520"/>
          <a:ext cx="834876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06520"/>
                    <a:ext cx="834876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6520" y="544680"/>
          <a:ext cx="838836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44680"/>
                    <a:ext cx="838836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16:05:38Z</dcterms:created>
  <dc:creator>jalvarez</dc:creator>
  <dc:description/>
  <dc:language>en-US</dc:language>
  <cp:lastModifiedBy>Victor Ramiro</cp:lastModifiedBy>
  <cp:lastPrinted>2006-08-11T14:25:28Z</cp:lastPrinted>
  <dcterms:modified xsi:type="dcterms:W3CDTF">2010-07-06T19:43:45Z</dcterms:modified>
  <cp:revision>21</cp:revision>
  <dc:subject/>
  <dc:title>Sin título de diapositiva</dc:title>
</cp:coreProperties>
</file>