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D4EC-459E-4D4B-954C-1B23A80876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A9A-B7B9-4755-A9DA-DDFF5CE539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83C-6D3D-4527-A487-E4EDEC5E6F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EFA-7AC9-4EA3-934E-99909096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CA4-5A00-4DA1-A8A5-AFE5979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DAC-5B3A-4246-B28A-106F10A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5EF-4C1A-4A71-95AE-2D8D4038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BA9-D7CD-49B3-9093-E372D37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B42-7285-4974-8011-4F9EB3E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474-3B30-46B2-9ABC-EC9B62F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CDD-E483-45E4-88A1-7E55849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F4B-9877-406B-91D7-EADDC0B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585-CDE7-46B1-9B18-2CE6738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9B6-77D1-4F83-B506-EE2C24E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23C-196F-47D4-99AC-8EB506F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467-E9FC-4909-AD52-F1C50FC2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4120" y="1174680"/>
          <a:ext cx="7872480" cy="48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1174680"/>
                    <a:ext cx="787248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Victor Ramiro</cp:lastModifiedBy>
  <cp:lastPrinted>2006-08-11T14:25:28Z</cp:lastPrinted>
  <dcterms:modified xsi:type="dcterms:W3CDTF">2010-07-06T19:43:45Z</dcterms:modified>
  <cp:revision>21</cp:revision>
  <dc:subject/>
  <dc:title>Sin título de diapositiva</dc:title>
</cp:coreProperties>
</file>