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E6B9-1FA2-4C3D-950A-1546372AC8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A668-ECDF-465D-984F-B400DD2DC2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6405-B10D-4B60-80CE-995B650D84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CFC9-A917-442E-8B31-40B10FBFDC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C35-CAE9-48D1-90CB-B8BF2FB3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A9F-7C2E-49C0-A006-88EC383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29A-8BF9-491A-8574-4441DC93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7F5-91DA-49A5-B04A-5576F7D8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BB3A-491D-43A9-A21D-7877FC51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456E-B397-4E56-9B18-FABC7B45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D812-B9EE-4811-9B4C-AD49EA9D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304C-E9E1-4760-9D02-10400444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3EE1-894B-4464-B5B2-91BEB7D0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F792-67FF-49BF-B697-A0EE07E7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1C61-5536-4647-850B-9B05E1EE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D41-9256-4A52-B009-36DB7293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9A8C-2023-40CE-A13D-96D9A0DE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E758-C151-451D-B9AA-3070A96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D267-D00D-439B-A6CA-0CCB477A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FD50-95EF-4EA8-9B34-A4258E10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EF54-D316-448F-B55A-C37B9D69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C7F60-9BB3-43EA-85DC-9652D98C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B9D4F-940B-49B3-8523-7D85A44E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EE580-E5A7-4C28-A2B8-28B8AE3C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60997-1D3A-4B27-852E-7BA0BD7B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4C8A0-49B4-4D09-95D8-DF8C6D82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E32-1113-47DD-B682-E344F199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F4531-AC98-4D71-B0E6-B623F255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E05D6-5DDD-4F8A-A073-B9F6320F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84CC2-DB60-4730-B85E-65AB184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F757B-010A-4DDA-8621-92271C1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A3606-1B4C-49BF-95C3-1B813CF4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9689A-A13D-4DFE-9E15-854D8506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575C0-F2D9-441A-AC4F-ECA7EC0C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F9B2-AD04-4094-A074-F83FB766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532B2-8CBA-4399-B0EE-43DD26E1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1233-7165-4E9E-A7A4-E8B9FA67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49C-B2AB-4DB7-B7ED-E4D32235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22FB-8B10-4519-9E0F-08320282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58E62-EEA8-4DAC-A140-F6BDCBF9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7446-F706-4F34-BE37-7E1B57F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0D6A-DA0B-4485-A3C8-5777E494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F13B-FF16-4577-B15A-420E73A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383A-A7F8-4AA4-9136-586120FB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61E4C-41A9-4456-9ECB-E9E32155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0280-10CE-4C3A-9C38-4920D524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664D2-333F-429B-BAAE-7393EBA0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41B54-1D8C-4D55-9B6C-8915566E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C07-9BF0-4A20-BF37-FF1B7D17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4BB66-1E2E-4A27-BD00-0960848E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5771A-1BB1-4C61-B55C-7D0C8603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3242C-F79C-4FDC-B70F-1D52D6A8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10210-6BAC-4885-A25D-5774ABE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D4C45-B8F5-4277-ACF4-D9D21098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8F983-AD6F-49A9-8CD8-36669346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0F68D-FB41-4835-962D-BD24AAE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089A1-FF54-4F78-96AE-2162F5BD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C18DB-0CAF-4F1C-91DD-EF89DE64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8D15B-9EF5-4406-B8B9-10FE8CD8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5CF-71E6-4CB0-A9DB-F87C5430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E5ED0-408D-49A2-A82B-CB10F6C9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52839-C331-4FA6-895D-69841908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5BB31-B9AA-4554-8E60-652DD79E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86376-DCD2-4F4D-B98E-ED794B78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1259B-B699-4AE9-995A-FDA340A0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CDA96-27FC-4BCE-81C3-4F2C8B28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6A22D-32EB-4394-A5C8-699F3AD9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C80B5-DDEF-41A5-BDBC-E7DD4230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2508B-54A5-4DB1-908F-F14389B0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637FA-F41C-4DF7-817E-F6C8AB12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9A1-8628-4506-BB93-727F029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71DA8-9F01-4E42-8130-3AD752F9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2EB74-5087-402F-BCC9-CE0FE362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1C06D-19A6-4E42-A4BC-69E4C3B1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B6341-AB05-4B5D-BE61-62C65944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1173F-F444-45CD-B310-62C145BC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31323-5424-429E-B1B6-B206896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31D28-F50B-4A01-84F6-7A603DAA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97B072-B40F-4514-8542-AC45F55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2D4F9-DC95-4549-A44D-FDA3AF41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C67F2-3C2F-4BEF-AB5C-43ADB2F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16B-9FEC-418E-B99E-8FB937EA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0E2F5-9DAB-4F16-80B8-C2D8DFC2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ABCF6-AE21-4FCF-A59B-DB88C66E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ECBAE-79C5-4B09-AB90-6033B1DE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44423-21F0-4DE5-A695-25EAAFB3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64A20-B5B8-4675-B7A1-C428B932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7F8-5D73-4FF1-A7F7-744CDD3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390F-0831-435F-B32B-51EBDD8AED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A5B2-A6BF-42BE-906C-5BB306E113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C411-0564-4757-9C21-49EC58D1BB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C57C-AFF0-40B8-B8BC-7C7C3029EE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2AEC-57AB-4801-B5E0-E1B3BEBDD3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AE36-B10C-4998-8AD4-713988DD3F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70F8-8F85-4060-894C-0D8853A60F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34:41Z</dcterms:created>
  <dc:creator>jalvarez</dc:creator>
  <dc:description/>
  <dc:language>en-US</dc:language>
  <cp:lastModifiedBy>Victor Ramiro</cp:lastModifiedBy>
  <cp:lastPrinted>2006-10-02T18:34:45Z</cp:lastPrinted>
  <dcterms:modified xsi:type="dcterms:W3CDTF">2010-06-30T05:02:42Z</dcterms:modified>
  <cp:revision>27</cp:revision>
  <dc:subject/>
  <dc:title>Sin título de diapositiva</dc:title>
</cp:coreProperties>
</file>