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41920" y="-360"/>
            <a:ext cx="29383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92052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0291-803C-4885-B217-3923B652E6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B8B5-FA6A-48A3-B674-7A24370713C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C6E6-6BFD-4EC3-9920-C3949872B4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29383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26: ordenamiento de arreg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841920" y="9385200"/>
            <a:ext cx="29383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033E-97AB-43DD-A296-BF4E6EB7512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2088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F9C-8924-4DAE-BE2C-21A67B97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D0F0-43FD-423A-8EE3-EEF902F0F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02B-90D4-4E7D-B7FF-915BAC65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CE0F-76FF-41A4-AF41-CB12050D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D8C3-4468-40DE-B3CD-8060C108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EF2D5-B325-408F-BB15-97F28E8AF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B65C-1A0C-4E45-A32D-8E318A9D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397E-7729-43AE-A255-EB8F6C8B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1726-9236-4066-8153-AB76A0E7D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49D2-5464-4C4B-A74D-D708AE10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2601-2DDC-4554-9A64-E4D639B9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621-7913-489C-AF52-F7E6EFBD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9A137-DBF7-4121-BF4D-AB88E38A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018E-1142-4B29-B6C0-98899BD4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30A7-936C-40F4-8C9A-32FAB358C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0596-CF74-4F59-88DC-22B07F68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1D7C-4393-42B4-81BD-7FB31D59D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71E561-60BB-4E35-A541-92B59FE8C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33C2DB-BFE1-4F12-8CC7-E9E5E7D6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4685C-CE75-4017-9DE9-A75794A7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C6587-1EF1-4B27-913F-6F628B4C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295C18-C3F6-492A-B876-009EB2F5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B10-9A2B-46AA-ACA7-3EE5FA9C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B0674-5CC6-44BE-87D2-ABE19591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5DB9AF-23E3-490B-94B1-53F7B218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AAB912-0569-4A20-AB80-3E7791BB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72EDE9-B7A4-4C32-8E0D-9FFE7668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181F6-4073-4924-8FBF-5B0D4AE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23CB8-152F-46E5-8E27-5F3C355C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1447C-FAED-4222-9104-0563ED0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A3E26-AFB5-47FB-A25B-62DC88FF0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A2E0-287A-4709-9D51-40C52577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1E2F3-9207-4F20-9A9B-1D5CACC5E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EFDE-5900-4B7E-9F9C-6260F061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0C3E-D185-4A34-8563-8FE85A27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A154C-194D-4225-A6E0-C906DA40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9D772-913C-49CF-8E9F-DE42DB75A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B9E48-EFB5-4C08-83F1-F6DCB1830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7E3C1-1E90-4FCD-9D20-2FED3AFF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BA359-7500-4A47-86BB-06ED2784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D723-9D29-4192-AE50-00F128DE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AA99B-02FE-4E17-B6A8-E594EB99D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1965F-EA0D-4760-8958-3F6D7758B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31E3D6-EBCB-4702-B5D2-F2109C5A5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9DEF-7ED7-4F9E-8E67-504682A3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DF05D-ED31-4A71-BC60-EB5F42AED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EE6492-6131-4A79-9E30-16416486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6BEA08-4016-452D-9388-5208C5FF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D37BB2-64E2-46C3-ACF1-497A0063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B1564A-5CA2-4762-B91A-5C84ADFE9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490B24-6980-45E4-965E-3886501F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53D5A8-6E4C-4EB1-80A3-DDE293B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069BE5-3586-4B94-A692-6A2168E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0F1150-9CD2-4F72-864F-085667D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8DD445-29F9-48F7-BF89-FE99FBAF6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444-9208-4AEC-A488-26BBE33F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8B309F-8587-4CEB-9782-A5DA0548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0A2F7-5D65-445D-8D7B-5E1B83672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B8250-06E3-4852-B94C-655ADD27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47E54C-8008-4696-97A2-68845CD9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6FFC0-D69F-45A8-BD6F-1972AD8A8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BCED09-AC5C-414F-9C1D-06BFC0F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F40D0B-F00A-4CD8-8D99-6489C52C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85966D-5BBB-4A5D-86A9-7297191C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D83E49-F5F3-4A24-B656-178BE30D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1037EA-5286-4373-A729-61AEDF71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179-C8C7-452C-A30F-92D1D9C0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23243D-3E2F-4D8E-B5F2-F8185C5A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528851-8066-4DA8-98CD-4E5E909F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78FD28-29FA-428E-B6A6-1F363FFD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0B64FF-9D69-4251-8EF1-F81BDA45A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1A5E2-789B-4E85-AD39-929E5F4A9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68C20-D6A6-41C3-AA1B-43C9F709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6A4B2C-5F0E-4E86-B076-2A32C0AE3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C3AA64-7C14-451B-BD2D-F1BC9591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42B2A2-2D3B-4A99-B71B-69F13EFE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3C0CE0-618A-4688-A530-272EFF6C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D92A-AA0C-4653-9AC7-2E7251B7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3C81B1-4701-431D-AC07-981A29E9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F12E9-202E-4CEF-9D72-05EB1F05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F72C1A8-A1C3-4F2E-996F-1EA0062F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513C8D-0270-430A-8B87-C6E5AE1F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0C0D38-548E-49B1-8C41-76CF0D26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B264-1339-4F61-A846-99795C48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44454-DA48-474F-9E17-63B4C3A5735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410A-AA67-4BC1-864E-F4D131B99BE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A79E-E103-4A9E-8CC0-C5EADF4281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AA2F0-6607-40DC-A924-97CEF34442C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9C94-178F-4AC4-BB64-C1A2D998D7A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2AF1-FB90-4270-B668-2901BEE4FB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9F5F-D5F6-4BA6-AC13-0A1DE6890F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525600" y="463680"/>
          <a:ext cx="8342280" cy="624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600" y="463680"/>
                    <a:ext cx="8342280" cy="624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6" name=""/>
          <p:cNvGraphicFramePr/>
          <p:nvPr/>
        </p:nvGraphicFramePr>
        <p:xfrm>
          <a:off x="779400" y="619200"/>
          <a:ext cx="806472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19200"/>
                    <a:ext cx="806472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8" name=""/>
          <p:cNvGraphicFramePr/>
          <p:nvPr/>
        </p:nvGraphicFramePr>
        <p:xfrm>
          <a:off x="642960" y="878040"/>
          <a:ext cx="7854840" cy="5097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878040"/>
                    <a:ext cx="78548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0" name=""/>
          <p:cNvGraphicFramePr/>
          <p:nvPr/>
        </p:nvGraphicFramePr>
        <p:xfrm>
          <a:off x="469800" y="396720"/>
          <a:ext cx="83980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396720"/>
                    <a:ext cx="83980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2" name=""/>
          <p:cNvGraphicFramePr/>
          <p:nvPr/>
        </p:nvGraphicFramePr>
        <p:xfrm>
          <a:off x="420840" y="565200"/>
          <a:ext cx="8518320" cy="601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565200"/>
                    <a:ext cx="8518320" cy="601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385920" y="385920"/>
          <a:ext cx="8542080" cy="648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920" y="385920"/>
                    <a:ext cx="8542080" cy="64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6" name=""/>
          <p:cNvGraphicFramePr/>
          <p:nvPr/>
        </p:nvGraphicFramePr>
        <p:xfrm>
          <a:off x="517680" y="649440"/>
          <a:ext cx="8350200" cy="577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35020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5"/>
          <p:cNvSpPr/>
          <p:nvPr/>
        </p:nvSpPr>
        <p:spPr>
          <a:xfrm>
            <a:off x="468360" y="9525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ues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Ordenar un arch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uponiendo que sólo N líneas caben en memo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0" name=""/>
          <p:cNvGraphicFramePr/>
          <p:nvPr/>
        </p:nvGraphicFramePr>
        <p:xfrm>
          <a:off x="476280" y="576360"/>
          <a:ext cx="8142120" cy="612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576360"/>
                    <a:ext cx="8142120" cy="61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4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493560" y="457200"/>
          <a:ext cx="8493120" cy="67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457200"/>
                    <a:ext cx="8493120" cy="67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" name=""/>
          <p:cNvGraphicFramePr/>
          <p:nvPr/>
        </p:nvGraphicFramePr>
        <p:xfrm>
          <a:off x="476280" y="425520"/>
          <a:ext cx="8454960" cy="66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25520"/>
                    <a:ext cx="8454960" cy="66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2" name=""/>
          <p:cNvGraphicFramePr/>
          <p:nvPr/>
        </p:nvGraphicFramePr>
        <p:xfrm>
          <a:off x="843120" y="614520"/>
          <a:ext cx="7951680" cy="7615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614520"/>
                    <a:ext cx="7951680" cy="76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614520" y="480960"/>
          <a:ext cx="8096040" cy="608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480960"/>
                    <a:ext cx="8096040" cy="60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30T04:34:41Z</dcterms:created>
  <dc:creator>jalvarez</dc:creator>
  <dc:description/>
  <dc:language>en-US</dc:language>
  <cp:lastModifiedBy>Victor Ramiro</cp:lastModifiedBy>
  <cp:lastPrinted>2006-10-02T18:34:45Z</cp:lastPrinted>
  <dcterms:modified xsi:type="dcterms:W3CDTF">2010-06-30T05:02:42Z</dcterms:modified>
  <cp:revision>27</cp:revision>
  <dc:subject/>
  <dc:title>Sin título de diapositiva</dc:title>
</cp:coreProperties>
</file>