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A30-5249-4B51-9C53-1E0A95C54D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ED4-4490-44F0-8453-B8E4AEEE53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031-BEAC-49CC-934A-90F06615F8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86A-FC6D-427A-942C-7DF4BA961B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9FB-6D47-4D11-9CFB-553661A9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A87-1B65-4A07-9C5A-0AA08024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AD4-69A7-4597-9054-5556E140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B40-43A6-4671-AEDA-ABD5428B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C81-2E23-4883-ADA2-86820DAB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105-AFEA-4D92-8379-39E3421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A308-8A2B-4191-8B30-D98EFC2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222-852D-4AB0-8C0C-226EE670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400-76A8-47E7-BAF8-96A7A034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9A43-5D57-4530-A08A-317BA05A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BE5-C7A1-4D1E-B2FA-6BE8F0F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036-FE33-438E-B44B-CC133D21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E2E-9A72-43DC-8430-CE865BF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57D3-FDDA-4DBD-A4BD-634573C8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587-64D6-48C5-9044-169F6B1C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6600-8F33-4B2F-8B97-F2CC3C60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1EF5-F4AF-4A6C-85E8-0E8231BB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3F8E8-7B7B-4D4A-A9C2-B0D7BD62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B3C38-7582-400C-BA9F-8C9FF4C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ED62A-952E-406E-9F37-8DEABE7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8A62B-8F58-4A4D-A5BC-A89486F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C335B-D71B-400B-8AC0-BA86ABE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25A-7954-47F4-A5EA-BDC6787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A6064-1E76-40D5-BE93-4B3943EF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38087-C5B0-4935-9CA1-F675B635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B14FE-9CD5-4746-932E-166D5BF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0E362-7C6C-42DB-ADEF-85FACCF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E1970-AB4E-43FA-B7A1-8660AA10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49D8C-78EA-44BF-ACF5-C4395342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43FD0-DD2B-4477-B8B0-179EB70D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9022-6A69-4B85-8D9B-7B02FCB7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6D6B-9E89-41A2-8A1A-EB4429FB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B8CF-6B10-4175-B2BF-616D9430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E32-304F-44AF-A4E2-E239AD53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E2C2-C505-4ADD-B023-21B4191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20BA-1DEF-46B8-A3E1-1E835759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2430-B290-4293-B133-91B1B56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D8C0-CCA5-46CB-8E9B-F619E8E3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70E1-1918-4588-A2C7-9BD6883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6DD3-94AE-4226-9844-2459FBB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E3B0-9C65-4050-85C9-A4AE818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FA71-F7B8-43A7-8869-FBD5F88F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8BBF-E690-4CFA-B7CA-F93655CF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43729-6E38-4109-8118-1889EC4C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FD7-B609-4D7E-B2EA-643C1A58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FB944-7492-480C-A797-7888A021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6491A-EAC3-4DFC-9EA7-9835506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E8B1D-15BD-4E23-A577-7998D29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2F132-CFC7-411C-8FB1-34DBF9FE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E4E28-3EEC-4FDA-8DF2-EFFCCA57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CBBDD-7ECB-494B-8A04-649ADA0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C71A1-E4E1-40F8-8673-B0789D3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0E174-E797-4F37-806B-1293322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7C5BC-72E0-477A-9FA8-076BF98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860A0-E52F-46EC-9AA6-47F48AEC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774-6BBB-47CA-8913-C97D883D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9C88A-9202-412D-9908-6740AF6B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241A8-9408-4C2C-B8E8-56FCC0B0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98ECD-55BF-4553-ABC7-4B7EF963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F96F6-A397-4868-962D-0D3F905E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E28C0-9C40-40EC-BE4F-4ADAB262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50E05-E4A6-43CC-9BCB-70E8A5DC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2362B-299F-4F5E-AD3F-C67442B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1703F-D04A-40B0-8D29-B442E13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EEEEF-C075-4CEE-AC65-7612F22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26100-B960-48CC-BDEC-EC7B697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2A6-F6E0-4778-A377-244142C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942A3-723C-45DB-99A4-8CE5E52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511C0-60B4-423E-813A-4CF8BACC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EF366-862C-42F9-8E6C-CA755CD6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76BB2-5325-4B43-987C-925D03B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2101B-6A52-4794-AD14-12844472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CEA9A-30D2-4123-A354-C23BA77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D1ED9-DBF9-4FFF-A871-310E00DB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76EFC-8606-4F6D-9081-D4CFB32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61904-E600-40E8-A8BB-31D4989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6ABA3-82B8-4203-8FED-96254B24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141-1245-49C9-8C51-38DEA7C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E20B0-2EFC-4A39-B495-CF1BD3D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14EE4-AFFB-4475-9EAE-B0CB778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04060-7E90-4B6B-8C82-C44270D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2F325-9A66-4C60-96EE-E653B43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10A40-C10B-4E30-B365-40D0903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BDA-0984-46DA-A3FE-CF2F3B9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226-58B8-4164-9E1E-1CA4FAD974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0D4-6A1E-4F2B-9A4E-C35887774E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F9C-496E-4E47-94FF-EBD9913D61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FF3-F6EB-4358-B659-E26E58C672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8DD-CCCE-4E25-BD58-FF87E671F1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618-5A69-4756-AF0C-47DAE354FD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337-E4A9-4DE6-8A60-263DFD7B41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34:41Z</dcterms:created>
  <dc:creator>jalvarez</dc:creator>
  <dc:description/>
  <dc:language>en-US</dc:language>
  <cp:lastModifiedBy>Victor Ramiro</cp:lastModifiedBy>
  <cp:lastPrinted>2006-10-02T18:34:45Z</cp:lastPrinted>
  <dcterms:modified xsi:type="dcterms:W3CDTF">2010-06-30T05:02:42Z</dcterms:modified>
  <cp:revision>27</cp:revision>
  <dc:subject/>
  <dc:title>Sin título de diapositiva</dc:title>
</cp:coreProperties>
</file>