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6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03F8-7CCB-4A72-9216-F419B899C10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6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0E40-5492-4AC4-8B82-7D078A6361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6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CC44-F43F-48C7-BDD2-031AB18073E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6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5B63-1587-47CB-9521-6AE4E2BA94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A91-49DC-4D33-B97B-7FE5EBF1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D83A-1A40-4731-AB42-4345D03A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F33-F566-4E96-B38A-2F28D9CF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26E-BF7C-4614-9BCB-0528F907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6F8F-23C8-4D84-9DEA-6D9E9AD3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4BF4-1E56-4DC4-8FFE-43241261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8117-B72A-49E0-A5C0-4778B900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B87C-75C1-456F-8E74-B9DD4C8C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28F2-2B61-451B-A0F3-6D533F4E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30B7-89CD-4F1A-B420-E9E79813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2C8A-2AA1-4D2C-B87B-A204506B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1664-0136-497F-9827-02C2C0A3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78CC-0BBE-4F1C-AC13-A177FE32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73C5-129E-4E48-9BB5-B738681E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DED7-13BC-4FB1-979C-3715D192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46AF-E9C1-47F0-8DC3-57E1B5D5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E23F-08B2-472A-9471-F0FA02BF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7AC6B4-94FD-4109-89BD-209E6172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D087B-4C9B-454E-B196-D7C4E0D4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DB1F6-270E-42D9-8369-E4A6ECF0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7DBFC-4B60-445C-A55D-05D80FAA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86346-186A-40D1-ACB0-79C3FE13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B80E-FFAE-43AF-B60C-105FA665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E6A976-1EEB-4480-8DAE-7027A334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0C4B4-7A55-4173-9BC4-F02772C3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2DB4E-E17D-4917-9D6A-B1973229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DCF4B-16FA-40B7-A6E8-1C0B9E21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2AEEF-C4A0-40FD-A3DE-DB73525A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703C3-D571-4223-95DB-00B2CD04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2A1C6-ABAC-4F49-ADC7-4EDFB9DD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A9202-C385-4B63-936C-D59EDB33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35422-B332-4D98-A1CF-D5815776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869A6-970C-4980-8765-52C6C6AB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8A8-5A92-4F83-AFF7-6994D8A6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C68A9-A70B-40B6-8B12-74755682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B9363-47B6-4E85-AC1C-8B78E1F6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94FC3-B2BC-417A-85C9-4DBB723A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EDD06-8F4F-4339-98F6-F646FDF2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25FD6-8CA7-4209-AE7D-C1C215D0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C9CB7-6FF6-41F2-B52D-081DAABE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37E55-0672-4489-B670-EDEF14C0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E7C4B-31DF-4FF2-AD2C-957EF7BF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D83CD-1BB9-43ED-8447-36C53F7DE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5EB01A-3CB7-4405-9859-E60F550D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4D0-C937-4D54-8F3B-290A6496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4CAE2-6B6A-4052-BC81-60399416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DF9D59-8E44-4C1D-BEF6-64CA5C27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21435-ACBC-48A9-818B-9F0B94EE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6D8854-B211-45F2-AF29-B6FCE132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1226E6-AC84-4212-9427-AC07E113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97536-0CAE-425A-A4B2-F208B3D4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AD85AF-6DA9-4E01-A282-88223687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55022-4003-48BE-A49F-26B3FDCB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894536-31EF-4ADD-A85D-FD1059C2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00AEE5-79B8-446C-A6C3-E0936E62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32FF-A9F6-4946-B0FE-A3333B3D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AEF41-BB35-40F1-A955-95C575B7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AE42D1-C62B-4BB7-8318-016F62B2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684441-5D52-4D8E-8492-FCEE8D87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5297E8-CE2D-48DF-AFB9-21B2EEFA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232E99-0B44-4F17-8973-9656C588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ABEB7C-2380-4E17-A4AF-5C7ED71B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03D271-667B-4EC5-BD19-5956C4B4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83F119-CAD4-461C-B0AE-0DFB93E7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5311AF-A843-4130-94DE-1AFDAF81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DF9D7E-A3B1-4EE5-94B6-7460CB91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0B4-658E-4257-BD17-41766BFC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CCA782-6523-4123-9CE0-665DF052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E092B5-3ECD-4F7E-A6A5-66193674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206C0-4C79-4D21-B1DC-F22EF859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1107F-B631-4BA2-B2F4-F59BB481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441F31-0384-484A-8F9C-2B83B539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46628B-50BA-48D7-BB09-26406061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561133-FB29-496A-BFEF-BEFACC8D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FE8041-652E-4709-BFB6-9BF46AD6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387A75-2D24-4DA9-8331-6268386C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60E288-F338-447D-A8B1-89A4AB37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E0B1-2237-4131-9783-03E30567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A2148E-040A-4A44-BFFB-8E7C9FBD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B61BB3-2EB5-43A9-9FF1-4802F13A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7D7E20-B4BF-49E3-BD24-B6EECE50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AD6D55-AE5C-431E-B01E-7A033FD3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54B618-D159-422D-8518-99B9E963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5EE-9399-4EC6-80AF-9045AAE5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DAD4-01CF-4D6A-B12F-151B46DD853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8851-0748-4954-8075-22980AB80A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1464-3AD9-4E18-ABDC-E414B54907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F5CE-CDA4-4A44-9E87-D9DDC4AE5C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EF31-B28D-44FC-9D83-A775F55C9B2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2D88-4163-443B-8B45-B8BB7B95CE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7FDE-9E3E-4911-82B3-016E6C22592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525600" y="463680"/>
          <a:ext cx="834228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63680"/>
                    <a:ext cx="834228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779400" y="619200"/>
          <a:ext cx="806472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19200"/>
                    <a:ext cx="806472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642960" y="878040"/>
          <a:ext cx="7854840" cy="50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78040"/>
                    <a:ext cx="78548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469800" y="396720"/>
          <a:ext cx="83980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96720"/>
                    <a:ext cx="83980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420840" y="565200"/>
          <a:ext cx="8518320" cy="60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65200"/>
                    <a:ext cx="851832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385920" y="385920"/>
          <a:ext cx="8542080" cy="64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85920"/>
                    <a:ext cx="8542080" cy="64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517680" y="649440"/>
          <a:ext cx="8350200" cy="57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35020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5"/>
          <p:cNvSpPr/>
          <p:nvPr/>
        </p:nvSpPr>
        <p:spPr>
          <a:xfrm>
            <a:off x="468360" y="9525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ar un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oniendo que sólo N líneas caben en mem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476280" y="576360"/>
          <a:ext cx="8142120" cy="61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576360"/>
                    <a:ext cx="8142120" cy="61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655560" y="642960"/>
          <a:ext cx="82263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42960"/>
                    <a:ext cx="82263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692280" y="606600"/>
          <a:ext cx="799128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06600"/>
                    <a:ext cx="799128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493560" y="457200"/>
          <a:ext cx="8493120" cy="67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57200"/>
                    <a:ext cx="849312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476280" y="425520"/>
          <a:ext cx="84549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25520"/>
                    <a:ext cx="84549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843120" y="614520"/>
          <a:ext cx="7951680" cy="76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14520"/>
                    <a:ext cx="7951680" cy="76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614520" y="480960"/>
          <a:ext cx="8096040" cy="60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096040" cy="60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34:41Z</dcterms:created>
  <dc:creator>jalvarez</dc:creator>
  <dc:description/>
  <dc:language>en-US</dc:language>
  <cp:lastModifiedBy>Victor Ramiro</cp:lastModifiedBy>
  <cp:lastPrinted>2006-10-02T18:34:45Z</cp:lastPrinted>
  <dcterms:modified xsi:type="dcterms:W3CDTF">2010-06-30T05:02:42Z</dcterms:modified>
  <cp:revision>27</cp:revision>
  <dc:subject/>
  <dc:title>Sin título de diapositiva</dc:title>
</cp:coreProperties>
</file>