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4F3C-2FE3-4BDC-AA3B-6E82B05EE2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414-1D57-48DB-8E76-FA550B5629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C01D-A231-4D0C-9A4B-2D9FC27BC6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878-A891-4310-BA2F-2AFA5DA28A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DDF-AA13-43AE-BDF4-1DC5A52A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3F4-5FD4-41CC-98BF-F7F08059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BC1-BC97-4494-969D-687750EE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1F3-EF7C-49D2-AB35-6DA53037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C22-7A73-453F-AE7E-360F42A2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E1EA-62E8-4AB4-8834-D116040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3B7-D1EF-47E5-B13D-FD27CCA7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3735-42E3-484F-A120-C829C7B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AF3A-3327-4997-A66F-24B1B15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1125-7341-4501-8685-F547550E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193-A7CE-48F8-80BB-548B6F8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D5A-E1A1-4BA3-B966-86CB432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978-C802-41B0-ACBA-713D9A7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6AE-B834-4E54-86B1-3891F5D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275D-9A31-4DB1-88E9-66C3D375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C562-A1A5-4005-BAEF-4964853D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3A5-931E-4B24-A00D-0C5433CB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6EB85-97C1-4413-840E-F420BF5F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5E946-3566-4261-918A-7924B446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6B77D-DB79-4BD4-AACD-19F3FB7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6196D-8CBB-466C-911A-58527B7C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1C88A-D056-4BD0-8ED5-8AB535FC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F0C-AB57-43AC-A87D-54A7C22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7BB79-4EB1-4F13-BA63-BB1626DE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8721A-666F-4CF1-ACE8-2835507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59629-CEC7-4C06-9628-746E5ECF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062A4-1352-4C9C-8982-F7A9C03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20E95-F9BB-4938-A73C-DDB4799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874B2-3A5A-4777-835B-1EC30705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C391D-6A5D-4E66-AF72-25A6AFBC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BB5A-8337-44F3-869C-A0CC68BC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4D86-4991-4A9E-957A-46E0910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B20C-46C4-4C37-BEE5-9D9ED1E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85C-CDAC-4857-8506-A6B6D33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5DDD-8806-4CEF-9D1F-7C29D83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D9A0-B870-44FE-8070-7B9E5E6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8056-04B8-42A1-AC3A-44A1B72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4FF9-AD92-46EC-9D05-7A587FD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5A5E-73EA-4E99-B17B-2C737AD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62CE-1756-4AD4-9613-AC8B959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E8C6-1346-49DB-B4F7-B8967752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6133-360A-4185-A0DF-4F1C6DA0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764E-2D28-4658-8B52-D8098E3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CAF9E-061C-45FB-8B2D-865EE3E4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A56-AC97-4FB5-829D-2CEFAA8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13831-E64A-4BC8-8084-306C127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DBFF9-13BD-43C5-86C1-68A9EF99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70B05-65C4-412F-8723-370C9F0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2E313-DABE-47B0-B0FE-2EDD0F3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A9DCA-D8AC-4031-8DC1-C4EAADD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C5E9D-FCA0-4D79-B9D3-188EF04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19EE5-82AD-4054-80F8-C214432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D891B-6181-460B-B223-ABD2408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71976-2686-46B0-BA0B-511C767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3DC89-3DC7-43A4-8808-C59289EF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CEC-2673-4A76-94BF-821198C9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8C52C-B847-4DAE-A97E-96BC2E05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C9339-3C97-47BA-AAC9-9CBD895B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96005-DD6E-494C-9437-17AC7BE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7AB62-CAEA-4455-8273-778A4C22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38929-C4F1-47AB-853D-1B92828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5DAA3-1D6F-4BAF-82EA-D70A460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45E90-2AC3-473F-890E-8404A40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8E705-6FBF-452B-A6BE-1A80DF4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DEC0F-1DE2-44FF-9241-2E0DEA6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8A890-B682-4422-BCEE-04519A0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A7C-7C85-45D2-86F0-2FD2051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4BBEA-DE6C-4986-B47B-B107EDE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32591-0640-496C-8DE2-1FFBAA38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8B1D9-CDD1-42F0-B177-236AD2C1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6376F-FBB5-4494-B1D6-C900634C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064A7-708D-41E9-92F0-613F0976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1C022-2FAB-43D7-A317-239B8FB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C9954-4C33-4EA3-A374-672A683C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8C7FD-6604-407D-93C8-CC5C831B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B8A58-248C-426B-95A8-EDC0E3C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12B73-D7C7-41AA-B226-270F4C6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C3B-5AC1-4A3C-8A63-7F2A3D4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85855-4A0F-4D20-AB32-2C6ABB3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568A3-9364-45FD-8114-53177C1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292E2-6164-4AEC-B127-1BFEE20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DA20A-62D7-4FCE-8F68-1DD74E94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DA3F1-4F6B-4A7A-8A59-E9C792D3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FB3-B897-4BDE-9D2C-3C489E8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74D9-DFC6-43D4-8808-A88545E870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7A6-1B0B-432D-A66E-B52FAC9557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C85-A065-4436-9851-172188CB74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8400-5149-4AE0-80CD-E311BB64A2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1CE-A652-4499-9F52-061BF583FD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8F8-0B5C-4CA3-8F81-53D0A9EA7B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E82-D54D-476A-B4ED-ADE03A328D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34:41Z</dcterms:created>
  <dc:creator>jalvarez</dc:creator>
  <dc:description/>
  <dc:language>en-US</dc:language>
  <cp:lastModifiedBy>Victor Ramiro</cp:lastModifiedBy>
  <cp:lastPrinted>2006-10-02T18:34:45Z</cp:lastPrinted>
  <dcterms:modified xsi:type="dcterms:W3CDTF">2010-06-30T05:02:42Z</dcterms:modified>
  <cp:revision>27</cp:revision>
  <dc:subject/>
  <dc:title>Sin título de diapositiva</dc:title>
</cp:coreProperties>
</file>