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4: Diccio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60E3-9D86-4370-9EC3-FD6159858C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4: Diccio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711A-A03F-438A-9116-CC0D345823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4: Diccio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EC67-3362-4DF6-8930-A42812A123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BD6-64FA-4209-8932-F0EAFBFC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FDD-004A-4E4D-93A8-294692DC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42F-3AF7-42B4-A0CA-6A796D15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6C6-53E2-48A6-AEEB-0060D959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D5E1-B5E3-4C55-B057-65E99206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8C99-F2B5-4AC8-A28E-CF3CA15A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77ED-5653-4355-BFF7-E9BFECF6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7FC2-3DAB-4B26-B6A9-8B88BD9A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06E8-7E81-4046-85A9-DFBF6EBA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B719-1FD0-4B02-ADE7-CF73DC57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79A4-399F-470C-A4C2-1D7B0E0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CF4-B2A9-4599-AB03-910636DB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B4CA-C31E-4CAA-92B9-8A531C9D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513B-B082-46B7-A080-E79832B0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B1FB-1B44-4639-8644-645FD168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87D3-C1DA-4A85-BFEB-E264F7AC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79FD-E578-4DE9-9E9C-297FEA01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66DEB-13E8-44A0-8348-D3CE9693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D5906-687F-4DC8-9658-41EAC9D4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9E31C-D27C-4C05-AD07-8F49CEDB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F7CFD-BE16-4ED0-A763-3BF9B320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F324D-9E56-4353-AC87-5DA34369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006-69B7-44F4-8CE0-56546121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A51E2-A1DF-4361-B5EA-6A674942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F36E6-945E-4CE0-97E0-9C0C22A7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EAA67-F730-4979-A778-00D8228C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446F3-34DF-4D24-B6B4-8822B0D1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72154-39F4-4644-BC68-A2753C94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F16E8-929B-4BCE-97CA-052AE78A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047D0-9172-4356-A4A3-BE1DB6ED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69AC2-7ADC-4146-AE15-AF04D723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E0C5C-22E4-4CEE-82E0-294C54B0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51A72-4CE0-45A4-B509-F87FD1A8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29E-1E17-4E71-BC3E-64FBCD4E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2C3F3-0737-41D9-9984-81319126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8884-299C-4C3E-BC1E-96E2C0C2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67011-628C-4EA6-A31E-50AD48DC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3512-A484-4C84-9185-9633F86A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F743E-5195-43B7-B074-57C37F27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84881-B262-4F43-A7B1-6AD6FCD1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D81B0-EA9B-4287-A08F-C47CD841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480D-D757-4BD1-B7C7-15B1C1C0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A6F9-2BF7-4E77-8681-D3AC57A8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E013B-7E65-472D-94DB-D3ABCAFE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D1F-8B6B-4EB5-87A7-9C3FECF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95CBA-B742-4786-929B-0317A93F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14D00-8CDF-4513-ABFD-339751E3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79279-A970-42AB-98EF-E5CBBD5B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556F9-B6EC-4E20-9466-DEDAB6F4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C0815-0C76-40DA-972D-BA7DD887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DBC21-78C4-4BE1-B325-57155AC2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C3D1D-AE3A-4705-9ED4-A96ECFC2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0DA3C-C71C-4A8B-8553-E1B858DA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C71C5-0E42-4111-991B-0D9CD9EB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1E80C-890C-44BC-B891-1B3A5D23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763-9B18-4236-BFBE-12F50952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E3FD3-CBED-4262-AC25-42AC6E80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93EDDF-6FC4-4DC0-9181-F405F7F8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1C5A2-FDA3-4A0B-BD74-5FA367C2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33D3A-52DF-4D1C-A725-7078DC5A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2CAA1-8873-4BE9-B8B1-261B4DB0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BF673-E68E-4385-BECD-77F3B4EE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1BA8D-DEE2-4278-A1C2-B3F11DAB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14A9F-AFD8-4D8C-A527-A5E15BF9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DDC67-0233-429E-8807-32766380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E0B33-2FB5-4052-8445-33B992DC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8EE-1013-461B-B02B-ACA8984A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92248-A1C5-4349-A169-AB177F1F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02E4E-FE78-4097-BE88-C696EB5D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84DA0-4344-4938-A465-D0346995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713C7-90E8-45DF-9C06-2F822DD2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444DCC-6AAE-4EA4-BF01-70190667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BF8E2B-DAE2-4C03-A389-44ED92EA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ACB63C-59F3-466F-B29E-F1B93148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13DB6-826B-45F7-86D6-EC32D41C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EE0C2-309F-4FE6-AD8C-B3CF4A5B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162E8-4BAB-4CFF-A17E-0BE85D14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EF2-70A1-4C85-AA16-D92DE4D7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5ACC5-7740-424F-A6AC-DE344E96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7F0E7-294C-4B9E-AAC2-5EBC42A1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5D60F-5FFB-4BA2-99D4-2893ED90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5582A-5926-4161-BBF0-9A59D1A6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37504-D887-4640-BE0C-65970554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716-99E5-40B9-9188-C614952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1D4C-FAB2-4129-939E-5041F24CA1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7887-18C4-490B-BF34-DB7AC4040A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4774-C218-49CE-BF97-FE2B4451FC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1115-434A-49A4-B581-1C57095DDC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B110-3462-4B98-8B5C-79A424D602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A89B-E7D7-4561-8D0D-4A0937E669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B1D1-20CD-4C25-ADE9-B134005E99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412920" y="351000"/>
          <a:ext cx="8580240" cy="67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51000"/>
                    <a:ext cx="8580240" cy="67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396720" y="480960"/>
          <a:ext cx="839808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39808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493560" y="565200"/>
          <a:ext cx="845820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65200"/>
                    <a:ext cx="845820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88800" y="399960"/>
          <a:ext cx="780264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780264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12"/>
          <p:cNvSpPr/>
          <p:nvPr/>
        </p:nvSpPr>
        <p:spPr>
          <a:xfrm>
            <a:off x="2103480" y="16686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5"/>
          <p:cNvSpPr/>
          <p:nvPr/>
        </p:nvSpPr>
        <p:spPr>
          <a:xfrm>
            <a:off x="565200" y="1262160"/>
            <a:ext cx="518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3"/>
          <p:cNvSpPr/>
          <p:nvPr/>
        </p:nvSpPr>
        <p:spPr>
          <a:xfrm>
            <a:off x="5749920" y="12621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4"/>
          <p:cNvSpPr/>
          <p:nvPr/>
        </p:nvSpPr>
        <p:spPr>
          <a:xfrm flipV="1">
            <a:off x="638280" y="11901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925560" y="17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250920" y="961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operación borrar de TDA dic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495360" y="1405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0" y="-93600"/>
            <a:ext cx="28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24000" y="1550880"/>
          <a:ext cx="8208720" cy="1219320"/>
        </p:xfrm>
        <a:graphic>
          <a:graphicData uri="http://schemas.openxmlformats.org/drawingml/2006/table">
            <a:tbl>
              <a:tblPr/>
              <a:tblGrid>
                <a:gridCol w="517320"/>
                <a:gridCol w="490680"/>
                <a:gridCol w="1349280"/>
                <a:gridCol w="1427040"/>
                <a:gridCol w="711360"/>
                <a:gridCol w="358920"/>
                <a:gridCol w="1099800"/>
                <a:gridCol w="1517760"/>
                <a:gridCol w="736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Rectangle 88"/>
          <p:cNvSpPr/>
          <p:nvPr/>
        </p:nvSpPr>
        <p:spPr>
          <a:xfrm>
            <a:off x="493560" y="2629440"/>
            <a:ext cx="396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nod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98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17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24000" y="2951280"/>
          <a:ext cx="8339040" cy="2614320"/>
        </p:xfrm>
        <a:graphic>
          <a:graphicData uri="http://schemas.openxmlformats.org/drawingml/2006/table">
            <a:tbl>
              <a:tblPr/>
              <a:tblGrid>
                <a:gridCol w="216000"/>
                <a:gridCol w="520560"/>
                <a:gridCol w="1060920"/>
                <a:gridCol w="1815840"/>
                <a:gridCol w="886680"/>
                <a:gridCol w="295200"/>
                <a:gridCol w="1167480"/>
                <a:gridCol w="1598760"/>
                <a:gridCol w="77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Rectangle 218"/>
          <p:cNvSpPr/>
          <p:nvPr/>
        </p:nvSpPr>
        <p:spPr>
          <a:xfrm>
            <a:off x="0" y="553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19"/>
          <p:cNvSpPr/>
          <p:nvPr/>
        </p:nvSpPr>
        <p:spPr>
          <a:xfrm>
            <a:off x="539640" y="57848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boole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mpara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29"/>
          <p:cNvSpPr/>
          <p:nvPr/>
        </p:nvSpPr>
        <p:spPr>
          <a:xfrm>
            <a:off x="4525920" y="1838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244"/>
          <p:cNvSpPr/>
          <p:nvPr/>
        </p:nvSpPr>
        <p:spPr>
          <a:xfrm>
            <a:off x="8388360" y="18446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262"/>
          <p:cNvSpPr/>
          <p:nvPr/>
        </p:nvSpPr>
        <p:spPr>
          <a:xfrm>
            <a:off x="154764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263"/>
          <p:cNvSpPr/>
          <p:nvPr/>
        </p:nvSpPr>
        <p:spPr>
          <a:xfrm>
            <a:off x="572436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264"/>
          <p:cNvSpPr/>
          <p:nvPr/>
        </p:nvSpPr>
        <p:spPr>
          <a:xfrm>
            <a:off x="39528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265"/>
          <p:cNvSpPr/>
          <p:nvPr/>
        </p:nvSpPr>
        <p:spPr>
          <a:xfrm>
            <a:off x="8101080" y="479736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266"/>
          <p:cNvSpPr/>
          <p:nvPr/>
        </p:nvSpPr>
        <p:spPr>
          <a:xfrm>
            <a:off x="4356000" y="4797360"/>
            <a:ext cx="792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267"/>
          <p:cNvSpPr/>
          <p:nvPr/>
        </p:nvSpPr>
        <p:spPr>
          <a:xfrm>
            <a:off x="4356000" y="479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68"/>
          <p:cNvSpPr/>
          <p:nvPr/>
        </p:nvSpPr>
        <p:spPr>
          <a:xfrm>
            <a:off x="4427640" y="5589720"/>
            <a:ext cx="47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476280" y="450720"/>
          <a:ext cx="8104320" cy="598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10432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463680" y="438120"/>
          <a:ext cx="8454960" cy="65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38120"/>
                    <a:ext cx="8454960" cy="65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701640" y="476280"/>
          <a:ext cx="841680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76280"/>
                    <a:ext cx="84168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750960" y="514440"/>
          <a:ext cx="8116920" cy="62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514440"/>
                    <a:ext cx="8116920" cy="62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488880" y="501480"/>
          <a:ext cx="835524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501480"/>
                    <a:ext cx="83552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412920" y="225360"/>
          <a:ext cx="876924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25360"/>
                    <a:ext cx="876924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412920" y="450720"/>
          <a:ext cx="8643600" cy="729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50720"/>
                    <a:ext cx="8643600" cy="729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463680" y="351000"/>
          <a:ext cx="8592840" cy="69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51000"/>
                    <a:ext cx="8592840" cy="69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463680" y="363600"/>
          <a:ext cx="8329320" cy="71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63600"/>
                    <a:ext cx="8329320" cy="71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80960" y="433440"/>
          <a:ext cx="8494920" cy="72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494920" cy="72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444600" y="565200"/>
          <a:ext cx="850716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65200"/>
                    <a:ext cx="850716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Victor Ramiro</cp:lastModifiedBy>
  <cp:lastPrinted>2006-09-05T13:00:13Z</cp:lastPrinted>
  <dcterms:modified xsi:type="dcterms:W3CDTF">2010-07-02T03:40:10Z</dcterms:modified>
  <cp:revision>39</cp:revision>
  <dc:subject/>
  <dc:title>Sin título de diapositiva</dc:title>
</cp:coreProperties>
</file>