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334D-405A-40B4-9BEB-09717D2F9A5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C9BB-E048-439E-839E-D98E24546E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4: Diccion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9D61-EE68-41F2-ABA4-0A9CD05752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2EB-5F49-4399-ADCA-1A9EC7FC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FC1-3881-428F-88D6-E79504CF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45E-50A9-44A7-861B-CA754302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246-5F2D-4A5C-A164-0BA104E4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FCA8-AB11-4ABE-9A94-E41AFC4D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B68-083D-4C99-9F3D-6BFCAE10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93C8-7CF1-491F-8845-CFB1CC56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BC34-30F2-4B46-BB80-197FF83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1F48-05C8-4FC9-8C41-688DBAE7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95F-34A2-4EE0-B0E3-3CC189F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20E-CD4C-4915-B262-EC59FE51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C20-39A1-49D0-960A-0904535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D4DA-90EE-49E8-8445-C7E9CA8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BA4-5728-46A9-8794-7A117ED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71F7-D497-439F-AAEC-6CDB3E6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B95E-E84A-4FD3-8AC7-73F46E6B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A3B2-F723-4EF0-B474-CBE4D301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70A5E-03D4-4D56-82C0-FBEE1252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D7A2C-81C7-4B3A-9894-B52DC746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BE38-61CE-49F0-86BE-2A3011F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A24EC-5BFE-447C-8AC8-00E52766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F20CD-BA3F-4593-AB90-D1916114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B49-1DB5-48D5-9D0E-B26DEAB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29759-7C0E-4441-AB84-448F1924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4BE1D-5239-46D0-A92A-A49A6592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7ECA1-44B5-466D-AA96-17D0A59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858A1-AB9E-4F62-AD5C-32B4E831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DEB0D-043C-4EBC-BDC2-B291F05F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D4ECD-FBC9-4A25-AA0B-A8FD18A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B2FBF-7851-4BEC-B259-D989A772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0AD2-7451-4E81-8D56-4F24DCA4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54CF-C80F-469F-8ABB-4D33AC15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AB04-37CF-4473-B58B-34B66BCC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F62C-41F5-48EE-9608-7552A50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01EF-9BF0-4621-98FB-5964CB1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E1D5-F0E1-497B-886D-CB703B9D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E40F-B6C4-4767-9610-AF45C7E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1C73-331C-408E-9F77-6EAF6EE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78DB-DC63-4268-9F1C-AFE911C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9820-203C-4C3C-9C0E-4115B3B1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E4918-4D40-4B08-AC8E-B06AF722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545C-227B-4F61-AF3C-A452602B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8186-5F58-4344-B9AD-E174C607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86AB0-CED5-44D1-B165-8F55E0B6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B7A-F875-4A98-92E3-48A55FC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D786F-AA02-44E4-9B66-2125AF1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5A77B-C4B7-40C5-BD9B-EEED8513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AE3A9-612C-469E-A065-D7DF8EF8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3EBB1-8EEE-4D66-933F-DDE7BC23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D988F-DEB5-4B97-94DE-5C14CB6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6B2F7-6EC5-4526-BCC5-58FF414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5A34F-E92B-43C4-8D9F-AB2D9E5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9E6E0-FC7F-4E4F-8615-FB75AE78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2ED54-F1C1-4F29-BCCF-BB4B639D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FEC05-1F4A-4A58-ADCB-E49D8F5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CFE-9FA6-4EE3-A3B3-41E7FE62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898C2-BCED-4596-A9CA-FDB5F313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20297F-706E-4F2A-8944-2B47C2D8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13E2F-B4BA-49C2-9E86-842FB98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A9B81-3D88-4D56-B03E-BD783A8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8DBD4A-1BFC-4893-80F6-C1D01E2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CECA9-65AA-4285-8696-14AB845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9B9A8-9387-42A2-8DF4-64A59F1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3F3E5-0E31-4E83-A990-96AEFF5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979AF-A8AE-4A94-9F0E-CD442E29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788CE-DCED-4DA4-9551-83FFD99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C93-191E-4603-AC93-EAF036D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390E7-41F5-4823-823C-B81D94E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A9FF3-E4C3-47D8-A82A-94464A62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4F3AC-6E3E-4F43-AFDC-1915C559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9D053-B33E-428B-9F43-63CB1A52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CCB9CD-863F-45B2-9AB4-2BA0E878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2A35E-6BBA-4415-AD81-2ADDB88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5091F-07A4-429F-9C35-EC8490A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23E475-1BD1-41D9-96D1-FCBCD0A1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94240-2A71-483D-ACAF-993D6E9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031C0-A716-45DE-B9AF-45851BC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B29-7A93-4CD7-913A-BE7366EB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83F9F-CF23-4573-83F6-20009BD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B6D577-DB9C-4948-BB56-29F65A3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F4C01-2363-418D-BA57-4744A9E0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9F28C-86D2-49B6-B9B2-B63637C2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7EAB4-5FF8-4F40-A440-4C35379B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135-D3DE-4810-827B-339F108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3330-B8F1-41CF-9829-A7C00BD6EF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A56-5F58-4CF9-AD6C-BE088F868D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EEF-F7D4-4568-9C4E-E44804A702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3A5F-1D7C-463A-9C80-9ED413F427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8842-6812-4CE1-BFE2-E82649A5E0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B7C9-55A1-40A0-A3F5-42CC9043B9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8F1B-9B9D-4FC3-A47D-25C95576A8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Line 12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5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3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4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1550880"/>
          <a:ext cx="8208720" cy="121932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Rectangle 88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98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17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24000" y="2951280"/>
          <a:ext cx="8339040" cy="2614320"/>
        </p:xfrm>
        <a:graphic>
          <a:graphicData uri="http://schemas.openxmlformats.org/drawingml/2006/table">
            <a:tbl>
              <a:tblPr/>
              <a:tblGrid>
                <a:gridCol w="216000"/>
                <a:gridCol w="520560"/>
                <a:gridCol w="1060920"/>
                <a:gridCol w="1815840"/>
                <a:gridCol w="886680"/>
                <a:gridCol w="295200"/>
                <a:gridCol w="1167480"/>
                <a:gridCol w="1598760"/>
                <a:gridCol w="77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218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19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29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244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62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263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64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65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66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67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68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Victor Ramiro</cp:lastModifiedBy>
  <cp:lastPrinted>2006-09-05T13:00:13Z</cp:lastPrinted>
  <dcterms:modified xsi:type="dcterms:W3CDTF">2010-07-02T03:40:10Z</dcterms:modified>
  <cp:revision>39</cp:revision>
  <dc:subject/>
  <dc:title>Sin título de diapositiva</dc:title>
</cp:coreProperties>
</file>