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4: Dicc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48AC-0B44-4637-8E4E-3184F29AEB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4: Dicc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756-3D2A-41CB-9AFB-7C0EB112BA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4: Dicc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B06C-8033-47BC-BBAA-36278066EB3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FB4-2BB9-4D5B-B6B8-0ED516A7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B69-A33E-4BED-89B1-0D022E30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267-9A67-4D7B-88F7-BBA49611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2EF-07AE-41D9-9C9F-8DF00FAB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EF9F-127C-4A6F-803A-000BA586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E10D-53AD-4A4D-B8F9-50217A4A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C7A4-BC95-497D-9EB5-B16139D3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5E4E-F160-4D61-B715-57DDC5E0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D4B0-0B21-44A0-9394-E7380003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41CB-425D-433E-8232-F8041966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57C3-76C6-446B-9369-D007A07A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9CF-7809-4541-B7A3-81B0C00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D9CB-B53E-46D0-9EE8-5C19097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944C-FD0B-49CE-AB42-54E1BF73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48EB-93DE-4966-BEB1-AE342152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9775-F480-454A-A120-AFF9A9A1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241D-E059-49AE-85B6-A17177A3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89898-A75B-4B7A-9A11-CC478320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0085B-1A72-4899-ADED-5C66CD0E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EBB67-BD54-4402-B125-E8A566D6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E5178-B922-423E-99BA-E7E3559A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155A8-DEE1-4DCD-87E4-554A5D72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332-D379-441A-9647-4B41EEAF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23FA8-89E9-41A1-A4CC-A41C66D7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9C68C-E7B6-407A-82B7-55B7852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C1ED8-94CE-40FF-81D1-034B14F7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A06B0-7273-4EB9-B22A-E594B9E1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3A286-B466-4E2E-A7B9-EBFD685E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B1EB2-4A0F-414C-BA9D-045E78CF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6A246-DFAA-4657-B57C-2A3493D2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6327-F1AE-4D45-ADB3-997F20B1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4980-D3C3-41E8-8DF1-D88F6931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7B43-A989-4215-875F-D0C60C79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B68-FED8-407E-9167-678F142A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02307-6FE5-4A7B-8C93-21BFCB8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2AF5-00E7-45FC-B8A4-5D15783B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A912D-4959-48BB-ACF4-C4651C41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8F8C-09F1-4EB4-A966-291342EB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B9CF-07AD-4D06-955E-1E0F423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2371-5B16-45DC-A934-EB9B79D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B537-BDE3-47DE-8B0B-6768EE5E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C41D-A5DA-411E-B0F6-FD6E9B89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8962-9924-46EB-969E-81EB322E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4D124-99ED-4B39-825C-A414DC2D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FEC-A9F1-437F-A978-A42CAAF5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284AF-F190-46D4-8878-4383523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FEA97-CEE3-47DB-9C45-25351B54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A1CF9-EE33-43A5-BB7B-A3D39B8A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1B12E-5101-4F58-869A-A5BA6297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1FEE6-2CEA-4B06-A3A5-3EEBFDAB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9873C-E15F-49CC-B1C8-F5C9206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AD8A3B-8945-40E2-B7BD-E8E3A69F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4B5BC-FA74-4FED-8B22-A032D9C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0C99D-966F-4746-8C18-5A982C2D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9B648-5231-439D-9255-F3E2545D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DEC-B61E-4190-8D25-93066AAE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B90F2-F71C-4370-A6EA-23C33A0D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6065F-2708-4B73-A8B6-ECCCDB5F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51F83-0FFD-48AD-AA4E-8525F9DF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E180C-4481-4E89-9F74-CA37263E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B9A78-A875-4A91-9E51-DD7EAF4E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25E02-0701-4D0F-BBE7-E0678908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13990-1104-4F23-82B4-326E3C52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B031B-3523-4E63-A1E3-DE09CE90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51C14-D14B-4038-AFF4-EB212CDA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ACC28-CAA0-4C86-86F1-956CD2D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A32-44EF-45A1-AE58-82EAFE2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A62D4-8CC5-41B5-B313-510380C1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68F25-3DCF-4D91-84DC-904C7401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596F9-BD3D-4BC4-867C-64777BAF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ABA8F-2AD4-4A6A-8A29-DBD47DE9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C0D26-029D-4A75-A01C-83BE63C2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8F7E8-3634-4AD9-A0D4-100616DF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4BE05-E106-4931-B4A1-7B03C65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77DFE-32F9-484D-B29B-27D3B9FB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4AF9B-BFA3-4675-982D-AB2ED231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7C76E-C7A1-4FD6-8B4C-A2B7338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23B-E6FC-4638-941C-E557D0A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200B89-62F5-4CA9-AD8A-4127B7B5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FD8BF-C445-481B-898E-D221973B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310F9-F418-41C2-8F65-019DEB19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BCF1D-10D2-4415-B46B-A4F99BF3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D75CC-26E9-4192-A00A-847A2906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06B-D518-449F-9FF2-410D9F3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7B42-AE10-4AC5-BEC1-80AABEE6CC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10E0-FC30-483A-9AB7-49DF470A39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768B-0910-4648-BA2A-CCF8E4E616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F7A-1CFC-45AE-8E59-EC14F721D6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2614-2433-4553-BF66-374052EB10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799A-2681-471D-8EAB-BBA66C9CA9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A0EB-BD00-4BDF-8256-C75B04FCEB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412920" y="351000"/>
          <a:ext cx="8580240" cy="67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51000"/>
                    <a:ext cx="8580240" cy="67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96720" y="480960"/>
          <a:ext cx="839808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39808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493560" y="565200"/>
          <a:ext cx="845820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65200"/>
                    <a:ext cx="84582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88800" y="399960"/>
          <a:ext cx="780264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780264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12"/>
          <p:cNvSpPr/>
          <p:nvPr/>
        </p:nvSpPr>
        <p:spPr>
          <a:xfrm>
            <a:off x="2103480" y="16686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565200" y="1262160"/>
            <a:ext cx="51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3"/>
          <p:cNvSpPr/>
          <p:nvPr/>
        </p:nvSpPr>
        <p:spPr>
          <a:xfrm>
            <a:off x="5749920" y="1262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4"/>
          <p:cNvSpPr/>
          <p:nvPr/>
        </p:nvSpPr>
        <p:spPr>
          <a:xfrm flipV="1">
            <a:off x="638280" y="11901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925560" y="17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250920" y="961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operación borrar de TDA di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495360" y="1405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0" y="-93600"/>
            <a:ext cx="28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24000" y="1550880"/>
          <a:ext cx="8208720" cy="1219320"/>
        </p:xfrm>
        <a:graphic>
          <a:graphicData uri="http://schemas.openxmlformats.org/drawingml/2006/table">
            <a:tbl>
              <a:tblPr/>
              <a:tblGrid>
                <a:gridCol w="517320"/>
                <a:gridCol w="490680"/>
                <a:gridCol w="1349280"/>
                <a:gridCol w="1427040"/>
                <a:gridCol w="711360"/>
                <a:gridCol w="358920"/>
                <a:gridCol w="1099800"/>
                <a:gridCol w="1517760"/>
                <a:gridCol w="73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Rectangle 88"/>
          <p:cNvSpPr/>
          <p:nvPr/>
        </p:nvSpPr>
        <p:spPr>
          <a:xfrm>
            <a:off x="493560" y="2629440"/>
            <a:ext cx="396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nod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98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17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24000" y="2951280"/>
          <a:ext cx="8339040" cy="2614320"/>
        </p:xfrm>
        <a:graphic>
          <a:graphicData uri="http://schemas.openxmlformats.org/drawingml/2006/table">
            <a:tbl>
              <a:tblPr/>
              <a:tblGrid>
                <a:gridCol w="216000"/>
                <a:gridCol w="520560"/>
                <a:gridCol w="1060920"/>
                <a:gridCol w="1815840"/>
                <a:gridCol w="886680"/>
                <a:gridCol w="295200"/>
                <a:gridCol w="1167480"/>
                <a:gridCol w="1598760"/>
                <a:gridCol w="77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218"/>
          <p:cNvSpPr/>
          <p:nvPr/>
        </p:nvSpPr>
        <p:spPr>
          <a:xfrm>
            <a:off x="0" y="553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19"/>
          <p:cNvSpPr/>
          <p:nvPr/>
        </p:nvSpPr>
        <p:spPr>
          <a:xfrm>
            <a:off x="539640" y="57848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mpara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29"/>
          <p:cNvSpPr/>
          <p:nvPr/>
        </p:nvSpPr>
        <p:spPr>
          <a:xfrm>
            <a:off x="4525920" y="183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44"/>
          <p:cNvSpPr/>
          <p:nvPr/>
        </p:nvSpPr>
        <p:spPr>
          <a:xfrm>
            <a:off x="8388360" y="1844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62"/>
          <p:cNvSpPr/>
          <p:nvPr/>
        </p:nvSpPr>
        <p:spPr>
          <a:xfrm>
            <a:off x="154764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63"/>
          <p:cNvSpPr/>
          <p:nvPr/>
        </p:nvSpPr>
        <p:spPr>
          <a:xfrm>
            <a:off x="572436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264"/>
          <p:cNvSpPr/>
          <p:nvPr/>
        </p:nvSpPr>
        <p:spPr>
          <a:xfrm>
            <a:off x="39528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265"/>
          <p:cNvSpPr/>
          <p:nvPr/>
        </p:nvSpPr>
        <p:spPr>
          <a:xfrm>
            <a:off x="8101080" y="479736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266"/>
          <p:cNvSpPr/>
          <p:nvPr/>
        </p:nvSpPr>
        <p:spPr>
          <a:xfrm>
            <a:off x="4356000" y="4797360"/>
            <a:ext cx="79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267"/>
          <p:cNvSpPr/>
          <p:nvPr/>
        </p:nvSpPr>
        <p:spPr>
          <a:xfrm>
            <a:off x="4356000" y="479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68"/>
          <p:cNvSpPr/>
          <p:nvPr/>
        </p:nvSpPr>
        <p:spPr>
          <a:xfrm>
            <a:off x="4427640" y="558972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476280" y="450720"/>
          <a:ext cx="8104320" cy="59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10432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463680" y="438120"/>
          <a:ext cx="8454960" cy="65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38120"/>
                    <a:ext cx="8454960" cy="65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701640" y="476280"/>
          <a:ext cx="841680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76280"/>
                    <a:ext cx="84168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750960" y="514440"/>
          <a:ext cx="811692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514440"/>
                    <a:ext cx="811692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488880" y="501480"/>
          <a:ext cx="835524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501480"/>
                    <a:ext cx="83552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412920" y="225360"/>
          <a:ext cx="876924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25360"/>
                    <a:ext cx="876924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12920" y="450720"/>
          <a:ext cx="8643600" cy="729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50720"/>
                    <a:ext cx="8643600" cy="729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463680" y="351000"/>
          <a:ext cx="8592840" cy="69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51000"/>
                    <a:ext cx="8592840" cy="69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463680" y="363600"/>
          <a:ext cx="8329320" cy="71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63600"/>
                    <a:ext cx="8329320" cy="71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80960" y="433440"/>
          <a:ext cx="8494920" cy="72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494920" cy="72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44600" y="565200"/>
          <a:ext cx="850716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65200"/>
                    <a:ext cx="850716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Victor Ramiro</cp:lastModifiedBy>
  <cp:lastPrinted>2006-09-05T13:00:13Z</cp:lastPrinted>
  <dcterms:modified xsi:type="dcterms:W3CDTF">2010-07-02T03:40:10Z</dcterms:modified>
  <cp:revision>39</cp:revision>
  <dc:subject/>
  <dc:title>Sin título de diapositiva</dc:title>
</cp:coreProperties>
</file>