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pct" ContentType="image/x-pict"/>
  <Override PartName="/ppt/media/image10.wmf" ContentType="image/x-wmf"/>
  <Override PartName="/ppt/media/image2.png" ContentType="image/png"/>
  <Override PartName="/ppt/media/image9.wmf" ContentType="image/x-wmf"/>
  <Override PartName="/ppt/media/image11.pct" ContentType="image/x-pict"/>
  <Override PartName="/ppt/media/image8.wmf" ContentType="image/x-wmf"/>
  <Override PartName="/ppt/media/image12.wmf" ContentType="image/x-wmf"/>
  <Override PartName="/ppt/media/image4.png" ContentType="image/png"/>
  <Override PartName="/ppt/media/image15.pct" ContentType="image/x-pict"/>
  <Override PartName="/ppt/media/image22.wmf" ContentType="image/x-wmf"/>
  <Override PartName="/ppt/media/image20.pct" ContentType="image/x-pict"/>
  <Override PartName="/ppt/media/image18.pct" ContentType="image/x-pict"/>
  <Override PartName="/ppt/media/image3.png" ContentType="image/png"/>
  <Override PartName="/ppt/media/image17.pct" ContentType="image/x-pict"/>
  <Override PartName="/ppt/media/image14.wmf" ContentType="image/x-wmf"/>
  <Override PartName="/ppt/media/image19.wmf" ContentType="image/x-wmf"/>
  <Override PartName="/ppt/media/image21.wmf" ContentType="image/x-wmf"/>
  <Override PartName="/ppt/media/image1.pct" ContentType="image/x-pict"/>
  <Override PartName="/ppt/media/image5.png" ContentType="image/png"/>
  <Override PartName="/ppt/media/image16.pct" ContentType="image/x-pict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C3EC-B881-4EB7-980D-4F464C6BDE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778-E44D-4957-AB82-3A571A63F5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F88-8076-4412-8FAF-2D4E7944230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CF02-D48B-4804-8EC3-4EEA26F549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D53-7935-48D9-9DCD-259118DB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DB6-D0E7-43B2-8E0A-26EE0E4C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0F6-3E78-4171-B345-1CB0AE63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D38-8C1A-4D4B-98D3-9452F6FC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5D9-DF99-4D7F-B758-6A811956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BC9-A271-4200-9A96-BF63C6D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80D7-ACA9-4CB8-807C-77220D03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273-F480-462A-BB18-225DB5AB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35F9-4BAF-4B2C-9A8A-1D7F4B2A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5B1E-A8E6-43EA-AAD3-9BBD23F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38C2-EB67-4FFC-B0AA-4AB8635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C6D-4BC3-4350-8C99-93A4FA8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F052-AB27-4F6C-AD47-FA8249D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ABB-42C4-4550-B69E-F5A3398C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DE1F-C8A5-498B-8F1D-CEC56BCA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81E1-EF0D-49E5-B424-4E599918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5427-E3C8-4B92-B2D1-FA0DC6D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91085-39CE-4B02-AFCC-03108C5B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ED475-6FC8-4188-BEB5-B68E2799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868D8-5A36-484D-93BD-2121D0B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F36AB-421F-469F-8CB7-F6E9D425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AA3D4-73A3-4B8A-A845-2673A96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0F9-1E8F-4B61-BE4F-1B9E2F2D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1A15A-EA87-4251-8CE2-78CF987C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EEF61-56F9-40F4-A2F2-0095A62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A406C-85B3-45BC-97A3-4DE1AFF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4EC3B-C3FA-4FA5-AE1C-6E04358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938B9-0D08-4DEA-B24B-E1CE67F9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825C5-24D8-48B9-BCBC-3791332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F7967-ADF7-4D07-855A-8C93AA1C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61B5-650B-4E4D-A63A-BDE72F14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5609-4762-4EFF-976D-E1E130D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37987-7D4A-4386-AB08-E02A6F3F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35B-EFDA-41CA-83B2-4AF60F4B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7511-010F-4E4B-AD02-67A80AA6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EB51-6C4E-4D8B-9767-55D93DF6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31EC-6DA8-4B48-964C-1185B7B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B645-5533-448A-896E-DCBFEE9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FD2F-27D0-4DD3-A66F-4A16D93D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F90B-06EF-4AE4-B33F-B151B5D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A193-F4D6-49B6-AA48-07C02AB7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61F0-9F7F-454B-B759-22DF084C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F8AD-37AF-4DDA-9E04-ED768881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9EFD6-9F36-4BC6-8125-D9F88C17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49A-6916-4313-B54B-C94E165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BF785-5BDD-4CD0-B3CE-29B52131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06D21-2637-4D08-AA47-367BFB6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5BF09-7B33-4156-9354-88F9238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84F8A-3A5C-493F-85F9-34EC730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66A9A-39B0-4E2B-ABD2-ED678289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2A222-453A-4493-A823-17DB241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67FFD-DFD9-419C-88C2-87B12FC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67F27-38C8-43F4-A92C-DC73137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50541-0451-4499-B207-48B42371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27639-7AF7-454E-9735-912BD199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0C6-4619-4849-BA6D-D48E4C79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A83E0-604C-4691-BC67-F2EC643B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C1DF3-8397-41FD-A8DD-72D5C7E4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7F469-5EF7-4745-B4F7-465E9C72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4E05A-6EAF-410E-B4E3-F98A71D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28803-DF5B-4769-8D44-481F0A7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7B6A5-3DF6-4BB1-8FFA-90A51D8D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79FB4-5E1A-499B-A817-6344B689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48C30-4E22-4C3A-BF1F-FC26DBEC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405070-0E28-4D7E-A7FF-0CC7C7FA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7C450-A461-418D-B723-4C4CB0A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812-3B29-4631-A21F-6001A87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25C48-8C90-481E-A8CB-6AD9A12E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152E3-675E-42FE-B118-4E1C81F9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E8088C-CF83-4900-A34D-38851999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4D24F-45BB-4746-94A9-AF473AB5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B46FE-EA3A-46DC-81B2-6DAD87A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61145-EC02-41DA-BA92-5401E14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5E9102-7B8B-463E-9E12-A53F443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D9CAF-EBFA-4276-B944-4F2C586A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A77AC-A1D2-41E1-92D1-E7E6D32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D0220-6E45-4FE4-8282-D8568FA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8F0-980D-4F77-AE4A-F86866FF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2AFB7-C515-4A7D-9ECC-E7D5D41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39927-A300-43F2-AA1D-2BBAABE1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89179-A2E0-46F6-80FA-C8C1702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DFD52-F389-44AC-8F70-6F2BBA9E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EBDB4-61CC-445F-88F6-B0CFDA22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9DD-B0B5-40DD-96DF-4E1F4BFC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1DC2-B9BF-4963-BFA1-A5E2013B69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5BE8-5A02-494E-9D36-D963042C01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2FF-CC60-4BB9-8CF5-C6FA5A18C8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745-3501-4BC7-8EF4-B9B1575547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1E84-76E5-475A-A524-97342648B4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9E20-C344-4D28-B45F-19FCBFDCE1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B42B-1AAB-47B5-8149-220CA75B15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955800" y="1011240"/>
          <a:ext cx="7640640" cy="52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1011240"/>
                    <a:ext cx="764064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0" name="Picture 3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Binary_search_tree.png"/>
          <p:cNvPicPr/>
          <p:nvPr/>
        </p:nvPicPr>
        <p:blipFill>
          <a:blip r:embed="rId4"/>
          <a:stretch/>
        </p:blipFill>
        <p:spPr>
          <a:xfrm>
            <a:off x="1219320" y="4724280"/>
            <a:ext cx="1681200" cy="1587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mage.jpeg"/>
          <p:cNvPicPr/>
          <p:nvPr/>
        </p:nvPicPr>
        <p:blipFill>
          <a:blip r:embed="rId5"/>
          <a:stretch/>
        </p:blipFill>
        <p:spPr>
          <a:xfrm>
            <a:off x="2819520" y="3276720"/>
            <a:ext cx="4794120" cy="1295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220px-Binary_tree.svg.png"/>
          <p:cNvPicPr/>
          <p:nvPr/>
        </p:nvPicPr>
        <p:blipFill>
          <a:blip r:embed="rId6"/>
          <a:stretch/>
        </p:blipFill>
        <p:spPr>
          <a:xfrm>
            <a:off x="3352680" y="4419720"/>
            <a:ext cx="22528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179280" y="25308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empty()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415800" y="1060560"/>
          <a:ext cx="8612280" cy="47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060560"/>
                    <a:ext cx="861228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44680" y="981000"/>
          <a:ext cx="836604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981000"/>
                    <a:ext cx="83660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755640" y="763560"/>
          <a:ext cx="8172360" cy="60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763560"/>
                    <a:ext cx="817236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488880" y="552600"/>
          <a:ext cx="848052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52600"/>
                    <a:ext cx="848052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80880" y="152280"/>
          <a:ext cx="8464680" cy="64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846468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890640" y="1157400"/>
          <a:ext cx="7769160" cy="483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157400"/>
                    <a:ext cx="77691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890640" y="644400"/>
          <a:ext cx="776916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4400"/>
                    <a:ext cx="776916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6:40:10Z</dcterms:created>
  <dc:creator>jalvarez</dc:creator>
  <dc:description/>
  <dc:language>en-US</dc:language>
  <cp:lastModifiedBy>Victor Ramiro</cp:lastModifiedBy>
  <cp:lastPrinted>2006-08-24T14:05:39Z</cp:lastPrinted>
  <dcterms:modified xsi:type="dcterms:W3CDTF">2010-06-23T04:39:32Z</dcterms:modified>
  <cp:revision>27</cp:revision>
  <dc:subject/>
  <dc:title>Sin título de diapositiva</dc:title>
</cp:coreProperties>
</file>