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89C67432-78B9-44CA-A23A-20FCC99EEF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60787528-E9E7-40FE-9DD4-7C08995A0C9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1684894F-EA15-4767-AF23-A4FD1C5CD14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C8721489-9D8E-4C32-90F8-4D9803B5037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83D6A266-705F-4899-A09D-D06E8B12F20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7BF-D1EA-40A3-8A38-E2DD643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AF6-88DF-44E9-BAA2-C522B987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EEA-C3ED-4EF9-A5CB-B8C87AE3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833-B7B2-4099-BC53-A832CA85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2BA5-5C84-4411-85A8-49D838D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EBE-F4C0-452E-B785-4E9B341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218-B32D-464D-92C5-7A328CEF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944-C40A-4173-A4BA-DEAA3DB9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429-932C-45B3-9C43-50E456B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DE8-10C8-4E6D-9748-C4D0B96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823-3A50-4557-94F7-745C981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675-D5F8-469B-B388-7D7BEAB2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74F3-7111-4589-87F3-2F16B80E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619200"/>
          <a:ext cx="83710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19200"/>
                    <a:ext cx="83710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8:42:04Z</dcterms:created>
  <dc:creator>jalvarez</dc:creator>
  <dc:description/>
  <dc:language>en-US</dc:language>
  <cp:lastModifiedBy>Victor Ramiro</cp:lastModifiedBy>
  <cp:lastPrinted>2006-07-21T17:48:13Z</cp:lastPrinted>
  <dcterms:modified xsi:type="dcterms:W3CDTF">2010-06-17T19:09:53Z</dcterms:modified>
  <cp:revision>29</cp:revision>
  <dc:subject/>
  <dc:title>Sin título de diapositiva</dc:title>
</cp:coreProperties>
</file>