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2.wmf" ContentType="image/x-wmf"/>
  <Override PartName="/ppt/media/image13.wmf" ContentType="image/x-wmf"/>
  <Override PartName="/ppt/media/image8.wmf" ContentType="image/x-wmf"/>
  <Override PartName="/ppt/media/image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pct" ContentType="image/x-pict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3200" cy="4636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lase 23: Stacks y Que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5800" y="0"/>
            <a:ext cx="2921040" cy="4636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5480" y="740880"/>
            <a:ext cx="4567320" cy="342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2960" y="4444920"/>
            <a:ext cx="5021280" cy="41688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97680"/>
            <a:ext cx="3013200" cy="4633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lstStyle>
            <a:lvl1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27-octubre J.Alvar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5800" y="8797680"/>
            <a:ext cx="2921040" cy="4633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lstStyle>
            <a:lvl1pPr indent="0" algn="r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fld id="{50AC089C-6C06-4D0E-B87A-24D59D62E4C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30132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lase 23: Stacks y Que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8798040"/>
            <a:ext cx="3013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27-octubre J.Alvar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925800" y="8798040"/>
            <a:ext cx="2921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 algn="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fld id="{8C82F3AB-EE1E-416B-B261-8C9D7E7B8D8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85840" y="741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2960" y="4444920"/>
            <a:ext cx="502128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30132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lase 23: Stacks y Que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8798040"/>
            <a:ext cx="3013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27-octubre J.Alvar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925800" y="8798040"/>
            <a:ext cx="2921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 algn="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fld id="{948D4441-1FDC-4AA6-AFF2-49AC9076CB9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5840" y="741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2960" y="4444920"/>
            <a:ext cx="502128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0"/>
            <a:ext cx="30132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lase 23: Stacks y Que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8798040"/>
            <a:ext cx="3013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27-octubre J.Alvar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925800" y="8798040"/>
            <a:ext cx="2921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 algn="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fld id="{DC511FDB-4F32-4283-AB8F-BA6B7E8DD00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85840" y="741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2960" y="4444920"/>
            <a:ext cx="502128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30132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lase 23: Stacks y Que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8798040"/>
            <a:ext cx="3013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27-octubre J.Alvar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925800" y="8798040"/>
            <a:ext cx="2921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 algn="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fld id="{E8A93CCB-5435-401A-9DA8-D772DC69209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5840" y="741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2960" y="4444920"/>
            <a:ext cx="502128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CB9D-28FE-4D7A-B66D-DD9B9C50A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DF5D-4529-45DA-9495-BD2BE9AA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FEC4-6B3F-4980-8369-C91B74C02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6F5B-7A07-4578-9DD6-7209B046F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6A86-CFEA-4684-9133-2CF19DEF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1D95-C407-4526-8218-A737D8C1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8687-FE14-4468-A004-999CE099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C650-B444-4D6E-B980-D3E205B6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6657-F1B6-415D-A255-0249F43E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6FEE-85AA-4C91-AE7E-BEB9AB51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82C1-6C1A-4A72-8C48-853F9E52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C2E9-B8E5-4CBF-9077-48FF5A5F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BEC9-F727-4097-8B45-0C3C4C976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865080" y="606600"/>
          <a:ext cx="762012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06600"/>
                    <a:ext cx="762012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985680" y="614520"/>
          <a:ext cx="7845480" cy="634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5680" y="614520"/>
                    <a:ext cx="7845480" cy="63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754200" y="457200"/>
          <a:ext cx="8177040" cy="625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57200"/>
                    <a:ext cx="8177040" cy="62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577800" y="614520"/>
          <a:ext cx="8373960" cy="597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614520"/>
                    <a:ext cx="8373960" cy="59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93560" y="577800"/>
          <a:ext cx="819324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577800"/>
                    <a:ext cx="819324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596880" y="584280"/>
          <a:ext cx="8292960" cy="627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584280"/>
                    <a:ext cx="8292960" cy="62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528480" y="504720"/>
          <a:ext cx="8374320" cy="563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504720"/>
                    <a:ext cx="8374320" cy="563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746280" y="601560"/>
          <a:ext cx="8132760" cy="553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601560"/>
                    <a:ext cx="8132760" cy="55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625320" y="480960"/>
          <a:ext cx="7904160" cy="57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80960"/>
                    <a:ext cx="790416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480960" y="577800"/>
          <a:ext cx="8373960" cy="632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577800"/>
                    <a:ext cx="8373960" cy="63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85800" y="396720"/>
          <a:ext cx="78436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96720"/>
                    <a:ext cx="78436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57200" y="469800"/>
          <a:ext cx="8542440" cy="603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69800"/>
                    <a:ext cx="8542440" cy="60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96720" y="420840"/>
          <a:ext cx="8421840" cy="700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420840"/>
                    <a:ext cx="8421840" cy="70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19200" y="681120"/>
          <a:ext cx="791676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681120"/>
                    <a:ext cx="79167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938160" y="517680"/>
          <a:ext cx="7796160" cy="619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517680"/>
                    <a:ext cx="7796160" cy="61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88880" y="619200"/>
          <a:ext cx="8371080" cy="607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619200"/>
                    <a:ext cx="83710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80960" y="433440"/>
          <a:ext cx="8531280" cy="618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33440"/>
                    <a:ext cx="853128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792000" y="568440"/>
          <a:ext cx="807732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568440"/>
                    <a:ext cx="807732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18:42:04Z</dcterms:created>
  <dc:creator>jalvarez</dc:creator>
  <dc:description/>
  <dc:language>en-US</dc:language>
  <cp:lastModifiedBy>Victor Ramiro</cp:lastModifiedBy>
  <cp:lastPrinted>2006-07-21T17:48:13Z</cp:lastPrinted>
  <dcterms:modified xsi:type="dcterms:W3CDTF">2010-06-17T19:09:53Z</dcterms:modified>
  <cp:revision>29</cp:revision>
  <dc:subject/>
  <dc:title>Sin título de diapositiva</dc:title>
</cp:coreProperties>
</file>