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2.wmf" ContentType="image/x-wmf"/>
  <Override PartName="/ppt/media/image13.wmf" ContentType="image/x-wmf"/>
  <Override PartName="/ppt/media/image8.wmf" ContentType="image/x-wmf"/>
  <Override PartName="/ppt/media/image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ct" ContentType="image/x-pict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5800" y="0"/>
            <a:ext cx="2921040" cy="4636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5480" y="740880"/>
            <a:ext cx="4567320" cy="34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97680"/>
            <a:ext cx="3013200" cy="4633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lstStyle>
            <a:lvl1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5800" y="8797680"/>
            <a:ext cx="2921040" cy="4633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lstStyle>
            <a:lvl1pPr indent="0" algn="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1AB55A12-58C5-49B5-B1EB-673648CD5F7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B1FA526B-4EE0-4FB3-8557-9C28A389395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01D0D4EA-5ABE-4B02-AF6A-D926ADA6B4C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FB147B5F-8191-4E47-A447-D693C35786C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F09EB83A-F1D7-465F-8E66-A91C3C01FF7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E5C-2EC6-4211-B0A5-001713FF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F71-6F6C-4081-93C6-D16EC576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D1BB-7BFB-4E61-911B-D900688A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5E2-CEA0-4F4B-B96A-EDA29325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7F19-9100-4655-BC33-BFEA367E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A2E-DB2A-41A6-8ECE-BEA86CD9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409-395F-4511-94DC-11AD5A98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AC2-365B-4BAA-A3F1-0C6B89E3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D52-54BF-45EF-87DF-87FD6A66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777-E105-45D0-8250-5F43BF77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CB9-0903-40A2-B621-575334E7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E37-E888-450C-8AA0-56E7F68B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2DCA-ED97-4E5C-9685-B48634AC6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865080" y="606600"/>
          <a:ext cx="76201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6201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985680" y="614520"/>
          <a:ext cx="7845480" cy="63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614520"/>
                    <a:ext cx="784548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4200" y="457200"/>
          <a:ext cx="817704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77800" y="614520"/>
          <a:ext cx="837396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614520"/>
                    <a:ext cx="837396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93560" y="577800"/>
          <a:ext cx="81932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77800"/>
                    <a:ext cx="81932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96880" y="584280"/>
          <a:ext cx="8292960" cy="627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84280"/>
                    <a:ext cx="8292960" cy="62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28480" y="504720"/>
          <a:ext cx="8374320" cy="56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04720"/>
                    <a:ext cx="8374320" cy="56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746280" y="601560"/>
          <a:ext cx="8132760" cy="55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601560"/>
                    <a:ext cx="813276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25320" y="480960"/>
          <a:ext cx="790416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80960"/>
                    <a:ext cx="790416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80960" y="577800"/>
          <a:ext cx="8373960" cy="63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577800"/>
                    <a:ext cx="8373960" cy="63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5800" y="396720"/>
          <a:ext cx="78436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720"/>
                    <a:ext cx="78436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469800"/>
          <a:ext cx="854244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9800"/>
                    <a:ext cx="854244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96720" y="420840"/>
          <a:ext cx="8421840" cy="700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20840"/>
                    <a:ext cx="8421840" cy="70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19200" y="681120"/>
          <a:ext cx="79167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81120"/>
                    <a:ext cx="7916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38160" y="517680"/>
          <a:ext cx="779616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517680"/>
                    <a:ext cx="77961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88880" y="619200"/>
          <a:ext cx="837108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619200"/>
                    <a:ext cx="83710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80960" y="433440"/>
          <a:ext cx="853128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5312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792000" y="568440"/>
          <a:ext cx="807732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68440"/>
                    <a:ext cx="807732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8:42:04Z</dcterms:created>
  <dc:creator>jalvarez</dc:creator>
  <dc:description/>
  <dc:language>en-US</dc:language>
  <cp:lastModifiedBy>Victor Ramiro</cp:lastModifiedBy>
  <cp:lastPrinted>2006-07-21T17:48:13Z</cp:lastPrinted>
  <dcterms:modified xsi:type="dcterms:W3CDTF">2010-06-17T19:09:53Z</dcterms:modified>
  <cp:revision>29</cp:revision>
  <dc:subject/>
  <dc:title>Sin título de diapositiva</dc:title>
</cp:coreProperties>
</file>