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A1D37B52-9FA4-41C1-86C3-040A6E0801A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F14B9FBD-BF69-47BE-9C6B-FC8753CE608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D98C6339-DFD4-4DD4-BED1-6514B6CAAE4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A65357A6-918F-4A32-AD42-B3E219C3201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lase 23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7-octubre J.Alvar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80EA869E-6822-4F66-B2FD-199CACCC4DE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885-35DD-466E-AC70-80F9841F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918-49BC-483C-AD2E-4AA1DAFC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385-9A3B-4F2D-9E41-2A9E9D17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BB10-05A6-4DC5-83E3-C93302A7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A5C-636B-4C66-8BDC-6BD39D27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F88-65CA-41D9-8C7C-386CAFF8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0F7-59C3-4664-8E53-8A6D2786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398-B7CF-4C31-89F1-BDC7A052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FAA-2CE4-48E2-91E9-81CE647B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7F6-452E-4890-A7D1-F77BF2DC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A5-919D-4220-B64F-C0FA223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AD0-6C54-413B-B285-02CCD7B9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294B-72CA-4024-852F-89554853E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96880" y="584280"/>
          <a:ext cx="829296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84280"/>
                    <a:ext cx="829296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25320" y="480960"/>
          <a:ext cx="790416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80960"/>
                    <a:ext cx="790416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88880" y="619200"/>
          <a:ext cx="83710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19200"/>
                    <a:ext cx="83710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7T18:42:04Z</dcterms:created>
  <dc:creator>jalvarez</dc:creator>
  <dc:description/>
  <dc:language>en-US</dc:language>
  <cp:lastModifiedBy>Victor Ramiro</cp:lastModifiedBy>
  <cp:lastPrinted>2006-07-21T17:48:13Z</cp:lastPrinted>
  <dcterms:modified xsi:type="dcterms:W3CDTF">2010-06-17T19:09:53Z</dcterms:modified>
  <cp:revision>29</cp:revision>
  <dc:subject/>
  <dc:title>Sin título de diapositiva</dc:title>
</cp:coreProperties>
</file>