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DED-0520-4E23-A7C0-CE447C7B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EFF-1C15-44BD-917A-983673D1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D77-4EE4-4DE7-BC1C-4847A31F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999-B7EC-4E49-87FA-77FA1B8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B02-9A81-465C-84B7-8CCF158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E52-2527-4DCF-BEE6-9408B43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A7B-D827-41A4-B9BC-5758994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CC8-8FA6-4E19-B400-AFB8EB3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385-ADAF-44A3-92BD-258DD2A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4F8-55A0-406D-B22B-7C7D674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C11-1DD5-465F-B706-11743D9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A0C-C0FA-4FC9-AC89-748DF7D2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965-0729-49EF-A799-C2C4C7C2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358920"/>
          <a:ext cx="8588160" cy="73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358920"/>
                    <a:ext cx="8588160" cy="73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:10; %for 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4*sum(abs(f(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))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2*sum(abs(f(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))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pares+impares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45208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45208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9-06-02T14:16:18Z</dcterms:modified>
  <cp:revision>26</cp:revision>
  <dc:subject/>
  <dc:title>Sin título de diapositiva</dc:title>
</cp:coreProperties>
</file>