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D18-9F6F-4B56-BA60-B562EACD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DB1-4155-4232-AB1A-2C663B40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7E2-B7DF-434C-B28A-2C2B1040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794-A672-4759-99B8-1CEE279A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394-1187-4C58-B724-6712732B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F03-C755-4D75-92FB-3DA0863D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B17-13BF-42BC-A264-06B28ABA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C2D-BB27-4A72-A570-2F5603F0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5BC-34BD-4814-AA00-9CAD9860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FFA-4B59-4B8F-9D77-E823FAFD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F44-3716-4A80-8D1C-66363DAB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D0A-20DA-482C-BD4A-D2C1FA30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1FF2-1608-4DC3-BB14-43DB55F5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93560"/>
          <a:ext cx="861372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93560"/>
                    <a:ext cx="861372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431640"/>
          <a:ext cx="853920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1640"/>
                    <a:ext cx="853920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040" y="444600"/>
          <a:ext cx="8921880" cy="72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444600"/>
                    <a:ext cx="8921880" cy="72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68440"/>
          <a:ext cx="82422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422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358920"/>
          <a:ext cx="8588160" cy="73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358920"/>
                    <a:ext cx="8588160" cy="73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7880" y="358920"/>
          <a:ext cx="8526600" cy="76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58920"/>
                    <a:ext cx="8526600" cy="76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74680"/>
            <a:ext cx="8218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Matlab: v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1,5); %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1,5); %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5; %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2:9; %1 3 5 7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space(0,1,5) ; %0 0.2500 0.5000 0.7500 1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1,5); %0.xxxx 0.xxxx 0.xxxx 0.xxxx 0.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=[1 2 ;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); %4 arreglo(nºfila,nº colum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1,: ); %fila 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:,2);  %colum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:end); %2ª a última columna de fil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*a; %[7 9; 15 22] multiplicación d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*a;%[1 4;9 16] punto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tlab: instrucciones if/else, whil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7487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=b^2-4*a*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a==0 error(‘no es de 2º grado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&lt;0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rror(‘raices imaginaria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warning(‘raices iguale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+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-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i=i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=1:10; %for variable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 %instru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lab: fu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%raizArea(a,b,eps,n): raiz y area de f en [a,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[raiz area]=raizArea(a,b,eps,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a1=a; b1=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while b1-a1 &gt; 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x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signo(f(x))==signo(f(a1))a1=x; else b1=x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raiz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(b-a)/(n-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4*sum(abs(f(a+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))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2*sum(abs(f(a+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))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*(f(a)+pares+impares+f(b));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 y=signo(x)%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unción interna del arch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x&lt;0 y=-1; elseif y&gt;0 r=1; else y=0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222120"/>
          <a:ext cx="8562960" cy="701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22120"/>
                    <a:ext cx="8562960" cy="70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469800"/>
          <a:ext cx="841212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69800"/>
                    <a:ext cx="841212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42880" y="469800"/>
          <a:ext cx="8366040" cy="813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69800"/>
                    <a:ext cx="8366040" cy="81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9320" y="407880"/>
          <a:ext cx="845208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7880"/>
                    <a:ext cx="845208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45960"/>
          <a:ext cx="838980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5960"/>
                    <a:ext cx="838980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9:49:31Z</dcterms:created>
  <dc:creator>jalvarez</dc:creator>
  <dc:description/>
  <dc:language>en-US</dc:language>
  <cp:lastModifiedBy>jalvarez</cp:lastModifiedBy>
  <cp:lastPrinted>2006-06-13T18:27:03Z</cp:lastPrinted>
  <dcterms:modified xsi:type="dcterms:W3CDTF">2009-06-02T14:16:18Z</dcterms:modified>
  <cp:revision>26</cp:revision>
  <dc:subject/>
  <dc:title>Sin título de diapositiva</dc:title>
</cp:coreProperties>
</file>