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20: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9F08-4B06-4089-8944-75983786A41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20: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D0DD-060A-4410-A65D-937DAC2FA9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20: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6F38-A2B5-4157-9BF5-740EACA950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20: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52E1-B238-4887-8232-736C6E07F0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645-BACE-4906-A510-8C927103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6C14-E70D-4A81-9FF8-D8D722C8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80AF-318D-4F5E-A50A-EE801DB8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F11-809D-4B48-90BA-66425F52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EC8-FA97-481E-895B-8FBC8B7E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FFE1-4974-4788-91FD-55B7F9E9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E59-52E5-40E7-8E8F-415519A4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107C-7D83-4C9A-A32B-2A6C8906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258-0672-436B-89DE-36DAD64C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E29-923F-4BE0-B316-E06CDB2A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43F-F167-4958-BF1A-C19184EF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AC1-71B1-4A07-9A09-1DE26D71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08AB-E817-441D-945D-844258F3B0B3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ribe el dato X en el string a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 a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g se reempl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iter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while b-a &gt;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==signo(f(a)) a=x; else b=x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0 r=-1; elseif x&gt;0 r=1; else r=0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 == signo(f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79280" y="1557360"/>
            <a:ext cx="89647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atos(2,:)=sin(datos(1,:)); %s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Seno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title(‘…’) xlabel(‘…’)    ylabel(‘…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labels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olor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dotted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enoCoseno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holdon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fila %g: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axis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subplot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oval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esh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surf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ones if/else y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39640" y="333360"/>
          <a:ext cx="8218440" cy="6134040"/>
        </p:xfrm>
        <a:graphic>
          <a:graphicData uri="http://schemas.openxmlformats.org/drawingml/2006/table">
            <a:tbl>
              <a:tblPr/>
              <a:tblGrid>
                <a:gridCol w="2739960"/>
                <a:gridCol w="3380040"/>
                <a:gridCol w="209844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pres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 . 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(negac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, 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  /   \   .*   ./   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 &lt;=  &gt;  &gt;=  ==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468360" y="26028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a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a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f23(x): calcula x al cuadrado y al 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 a b ] = 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57200" y="1628640"/>
            <a:ext cx="85075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f23(x): calcula x cuadrado y x cu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cubo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function y=cubo(x) %visible en arch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y =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457200" y="1557360"/>
            <a:ext cx="8507520" cy="456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raices(a,b,c): raíces de 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+bx+c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r1,r2] = raices(a,b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 -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a*c; %discrimin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a=0 | d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rror(‘a=0 o sin raices reales’); %ab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lseif 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arning(‘raices iguales’);%muestra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1=(-b +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2=(-b -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x y]=raices(1,4,3)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&gt;[x y]=raices(1,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=-1  y=-3            a=0 o sin raices r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14"/>
          <p:cNvSpPr/>
          <p:nvPr/>
        </p:nvSpPr>
        <p:spPr>
          <a:xfrm>
            <a:off x="2274840" y="4383000"/>
            <a:ext cx="292572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c 13"/>
          <p:cNvSpPr/>
          <p:nvPr/>
        </p:nvSpPr>
        <p:spPr>
          <a:xfrm flipV="1">
            <a:off x="2365200" y="3699720"/>
            <a:ext cx="2560680" cy="1189080"/>
          </a:xfrm>
          <a:prstGeom prst="pie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V="1">
            <a:off x="2457360" y="4383000"/>
            <a:ext cx="0" cy="45720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4924440" y="3882960"/>
            <a:ext cx="1440" cy="54936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2195640" y="3716280"/>
            <a:ext cx="276120" cy="4161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095640" y="3645000"/>
            <a:ext cx="1371600" cy="576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834080" y="4683240"/>
            <a:ext cx="457200" cy="3650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5018040" y="3324240"/>
            <a:ext cx="549360" cy="1839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000160" y="4118040"/>
            <a:ext cx="457200" cy="46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3645000" y="428292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108400" y="3765600"/>
            <a:ext cx="90360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719280" y="4416480"/>
            <a:ext cx="164592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324000" y="274320"/>
            <a:ext cx="810072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: Calcular raíz por el método de búsqueda b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r x como punto medio del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a) entonces repetir el proceso en intervalo [x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b) entonces repetir el proceso en intervalo [a,x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 Las iteraciones se detienen cuando el tamaño del intervalo de búsqueda alcance un epsil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682200" y="55407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,b,e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1617840" y="3875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8:45:58Z</dcterms:created>
  <dc:creator>Profesor</dc:creator>
  <dc:description/>
  <dc:language>en-US</dc:language>
  <cp:lastModifiedBy>Victor Ramiro</cp:lastModifiedBy>
  <dcterms:modified xsi:type="dcterms:W3CDTF">2010-06-10T20:25:33Z</dcterms:modified>
  <cp:revision>19</cp:revision>
  <dc:subject/>
  <dc:title>Diapositiva 1</dc:title>
</cp:coreProperties>
</file>