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lase 20: MAT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0A32-7604-4D9F-B528-8A062E308DD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lase 20: MAT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7561-D0D9-469E-94C0-450B48586EC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lase 20: MAT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2AAD-C761-4A4D-B6C0-25D7B1EF268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lase 20: MAT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5490-F9D6-4DD6-B7A0-90C47DF8517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94C3-A0B5-44FB-B4EF-1D129F0C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F641-7854-4D8D-B4EE-B87E97DF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F8D3-58B6-4845-A8B9-B7422B71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2176-35A1-4EA0-8245-BD2B7A54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17D2-EF5C-4642-BF5E-BCB59FDF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3815-358D-471D-B98A-B98D17F2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D74C-008E-42CB-8A3F-51F1111A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377C-60BB-4FFF-BCAF-78C8B21A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72B8-715D-43AB-9DFB-D2185A2E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BC38-92EB-4EFD-A9D5-669EF4C5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C9CA-3A3C-4B0B-9B71-B393D71A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258B-F70B-494A-A522-7B0FCF53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3B41-431A-479C-A815-76CD6B80A0B6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91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a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ribe el dato X en el string a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jempl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 a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g se reempl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 iter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while b-a &gt;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f(x))==signo(f(a)) a=x; else b=x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(a+b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0 r=-1; elseif x&gt;0 r=1; else r=0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f(x)) == signo(f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79280" y="1557360"/>
            <a:ext cx="896472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(2,:)=sin(datos(1,:)); %s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Seno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title(‘…’) xlabel(‘…’)    ylabel(‘…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labels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olor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dotted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SenoCoseno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holdon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fila %g: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axis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subplot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oval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mesh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surf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ones if/else y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39640" y="333360"/>
          <a:ext cx="8218440" cy="6134040"/>
        </p:xfrm>
        <a:graphic>
          <a:graphicData uri="http://schemas.openxmlformats.org/drawingml/2006/table">
            <a:tbl>
              <a:tblPr/>
              <a:tblGrid>
                <a:gridCol w="2739960"/>
                <a:gridCol w="3380040"/>
                <a:gridCol w="209844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pres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 . 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 (negac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, 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  /   \   .*   ./   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, 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 &lt;=  &gt;  &gt;=  ==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468360" y="26028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a(i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a(i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f23(x): calcula x al cuadrado y al cu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unction[xx,xxx] = f23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x = x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xx =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[ a b ] = f23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f23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457200" y="1628640"/>
            <a:ext cx="85075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f23(x): calcula x cuadrado y x cu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function[xx,xxx] = f23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x = x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xx = cubo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function y=cubo(x) %visible en arch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y =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457200" y="1557360"/>
            <a:ext cx="8507520" cy="456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raices(a,b,c): raíces de 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+bx+c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unction[r1,r2] = raices(a,b,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=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 -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*a*c; %discrimin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a=0 | d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rror(‘a=0 o sin raices reales’); %ab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lseif 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warning(‘raices iguales’);%muestra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1=(-b + sqrt(d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2=(-b - sqrt(d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[x y]=raices(1,4,3)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gt;&gt;[x y]=raices(1,1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=-1  y=-3            a=0 o sin raices re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14"/>
          <p:cNvSpPr/>
          <p:nvPr/>
        </p:nvSpPr>
        <p:spPr>
          <a:xfrm>
            <a:off x="2274840" y="4383000"/>
            <a:ext cx="292572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rc 13"/>
          <p:cNvSpPr/>
          <p:nvPr/>
        </p:nvSpPr>
        <p:spPr>
          <a:xfrm flipV="1">
            <a:off x="2365200" y="3699720"/>
            <a:ext cx="2560680" cy="1189080"/>
          </a:xfrm>
          <a:prstGeom prst="pie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"/>
          <p:cNvSpPr/>
          <p:nvPr/>
        </p:nvSpPr>
        <p:spPr>
          <a:xfrm flipV="1">
            <a:off x="2457360" y="4383000"/>
            <a:ext cx="0" cy="457200"/>
          </a:xfrm>
          <a:prstGeom prst="line">
            <a:avLst/>
          </a:prstGeom>
          <a:ln w="64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>
            <a:off x="4924440" y="3882960"/>
            <a:ext cx="1440" cy="549360"/>
          </a:xfrm>
          <a:prstGeom prst="line">
            <a:avLst/>
          </a:prstGeom>
          <a:ln w="64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2195640" y="3716280"/>
            <a:ext cx="276120" cy="4161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3095640" y="3645000"/>
            <a:ext cx="1371600" cy="576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=(a+b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4834080" y="4683240"/>
            <a:ext cx="457200" cy="3650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5018040" y="3324240"/>
            <a:ext cx="549360" cy="1839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2000160" y="4118040"/>
            <a:ext cx="457200" cy="46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3645000" y="428292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108400" y="3765600"/>
            <a:ext cx="90360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719280" y="4416480"/>
            <a:ext cx="164592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324000" y="274320"/>
            <a:ext cx="8100720" cy="37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: Calcular raíz por el método de búsqueda bi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r x como punto medio del interv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(x) tiene el mismo signo de f(a) entonces repetir el proceso en intervalo [x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(x) tiene el mismo signo de f(b) entonces repetir el proceso en intervalo [a,x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 Las iteraciones se detienen cuando el tamaño del intervalo de búsqueda alcance un epsil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2"/>
          <p:cNvSpPr/>
          <p:nvPr/>
        </p:nvSpPr>
        <p:spPr>
          <a:xfrm>
            <a:off x="682200" y="554076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i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,b,ep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1617840" y="3875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18:45:58Z</dcterms:created>
  <dc:creator>Profesor</dc:creator>
  <dc:description/>
  <dc:language>en-US</dc:language>
  <cp:lastModifiedBy>Victor Ramiro</cp:lastModifiedBy>
  <dcterms:modified xsi:type="dcterms:W3CDTF">2010-06-10T20:25:33Z</dcterms:modified>
  <cp:revision>19</cp:revision>
  <dc:subject/>
  <dc:title>Diapositiva 1</dc:title>
</cp:coreProperties>
</file>