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A0F-F76F-4B4A-93C5-102BB58864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CD8-5A9F-41BF-9A98-736E51A1F9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410-3C0D-4471-BCBD-6DCE019339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01B-C703-429D-A51F-F769CB404D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AF1-74F4-4B7A-9113-33ED7989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0D-AD77-46C7-9E68-AE1DEBC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E85-152E-46EB-BA25-D51C93A2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145-9D42-4CBC-BB94-2B122C4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4AA-678D-4304-9BE0-63CC54E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C0F-F348-4B92-BD83-12CC187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5A8-5849-4AA0-A11D-FE2034F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3E6-FCA1-4EC7-A8D3-6C1D22D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09E-8DCF-40C2-9D7E-FBA9E821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8F6-6CD7-4559-BE3F-C80FE8A2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61D-2495-4BF1-95E0-C2ABCFB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48B-7081-4E9C-8CC2-2366BC3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529-16BC-4907-BB3F-EB243A9CC60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abel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lor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dotted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enoCo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oldon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xi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ubplot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val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sh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urf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4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3"/>
          <p:cNvSpPr/>
          <p:nvPr/>
        </p:nvSpPr>
        <p:spPr>
          <a:xfrm flipV="1">
            <a:off x="2365200" y="3699720"/>
            <a:ext cx="2560680" cy="1189080"/>
          </a:xfrm>
          <a:prstGeom prst="pie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8:45:58Z</dcterms:created>
  <dc:creator>Profesor</dc:creator>
  <dc:description/>
  <dc:language>en-US</dc:language>
  <cp:lastModifiedBy>Victor Ramiro</cp:lastModifiedBy>
  <dcterms:modified xsi:type="dcterms:W3CDTF">2010-06-10T20:25:33Z</dcterms:modified>
  <cp:revision>19</cp:revision>
  <dc:subject/>
  <dc:title>Diapositiva 1</dc:title>
</cp:coreProperties>
</file>