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B7B-C5F1-4382-915E-4D6FFA138D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E682-6A8D-44D8-811B-12ECA1E54F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603-2E04-4D7F-A590-1F0AF438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43-15A5-488A-865F-B2A3E596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0DD-13B5-4B07-A95F-88D1B365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76F-A288-439A-BADA-E96D16ED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CB6F-0F49-4303-ACE8-192A9DE4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9DAA-149C-4C9F-A1B9-7FC47A28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DB39-B9B8-4108-BB07-B1A35946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BBD-196F-4771-AD6E-6300FAA6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F8F-E4BD-475F-B705-51A1770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FA7-1FF4-493E-9BF7-85F080B7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4256-7A76-4CEB-A110-106050E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328-A164-4528-AFDE-EAEB8AB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7003-4241-4698-BD02-C1A83E8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0CD8-AA62-4EAF-B9D9-774C53D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F74D-577A-4360-8CB2-92443CA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181E-C7CC-46CC-8B59-E3FF438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3F22-2BE5-42F6-A0DA-C9D29AB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3DE65-90F7-47BE-9FA9-7145694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3087E-2F35-4EC6-A509-4731F05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7EE1-F4D4-4107-9EA5-4F825111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EBB89-37D4-4F21-A8AD-E4F3229C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8CC0E-354C-4DAD-8446-2E0360F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0B2-83B2-41FD-AA65-AAABA7D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F158A-A1E4-4281-B54B-56C30708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4CC75-4A85-4C04-9818-4937DB3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A24FC-85D5-470A-910F-71F063D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2E93F-6E18-430D-B434-04187463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95632-A203-4B57-831E-A92068A0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90DE0-BE5B-49AB-8A69-63EBB0BD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C1326-5911-4A12-A5CF-D1E3CEB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8D23-27D8-40FA-AFE2-5368A084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9A11-8DC4-400E-AF8C-46EFEADB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AB3F-34F1-4AD6-8F07-B1F212D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905-5775-4243-9594-EAFCB464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24C8-F812-4C35-BFE0-68F2B70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545D-9D10-4AF3-B795-272116B6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2DBC-4A2A-4AE1-88AE-0C8B7B0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4739-D699-4F19-B605-20873BE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D080-A1F8-44D4-B254-1961A53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90AE-CA2E-455D-8D43-2C6EEDC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8A86-3F9D-497E-837F-D4DDAA2C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DE13-BCD5-48A4-B4CA-B816F7BE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9ACC-8200-4B2E-AEA3-AA8A2E1C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7D492-F0E3-42FA-AC34-DA14548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8B9-05AD-4462-807C-06DB36BC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290C3-967E-4D51-9476-2163F10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1A59A-E5BE-4E8A-BF4C-C2B4D585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6C5AF-5ECD-497B-8C92-8E8BDAC3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8526B-A02D-4B86-9011-C34F643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95F97-1A8A-453A-BADF-DDF238C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F5600-8BCD-4FA4-956A-866EAFEA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9FDEB-0F3E-4D96-B879-7878BF5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A9F94-206F-4C16-AAB7-E514476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C17C1-031B-4F43-A747-D661F287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A292E-9848-41B3-918C-74E236DA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A35-0266-4C1F-BEF6-55DBD92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BCF38-0B15-4D40-BEAE-0CAA2367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3D673-6C02-43D2-ABE1-6E94565F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97FA9-D9D5-4A01-B014-45414CC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E734F-1090-4EAF-8F0A-DF94A3B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7671A-F001-4C92-8AF9-46280E6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2EB79-CD7B-4471-BC60-2B8548A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6C665-7B92-468A-8347-282E5B3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23E75-8E50-45FD-A59C-8DAB894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E83CF-F4EB-4E44-9733-C6DB1CF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E86E9-4B66-47BB-A7E1-078112D4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571-4C3A-48C6-8A78-1AD307B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3E5C3-70D7-412F-ABF1-DA356B3F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2B8C5-CB15-46BA-8727-A0F18AAC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887CD-A87A-46E9-8E4E-2FC94C94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B081F-6C0E-4F61-BC6E-700CFBE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BF83D-F888-4563-9A77-9CDBE8A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B6340-8492-44C5-BCAD-859B8190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0DFB5-1D88-4EFC-AB16-0D72D08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6253E-68BE-44CD-B936-E1355A5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1E3A4-2E16-45C2-A618-9E7CA12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9AFD3-F1DD-47B7-B8BA-967FE0E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F97-A645-4570-95F8-3D1E7DC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98E64-8D8A-4316-B279-B0787FB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D516D-0DA1-4E51-8904-61AB8A9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B96BA-FBB7-4971-82CA-5A9413C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20261-CE38-46E4-B644-8CC11639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01915-7FE1-4DFA-AF13-CCDEE251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3BFD-3580-4297-8AAF-D68670AB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F54F-975F-4DF1-8D48-D39B601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502FF-3F14-41F1-846B-8B735B03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C5510-AE5A-4F98-ADDB-87D7F7E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B4D1-30C7-4BA2-9A3D-F1565CC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E16-A0C8-4E08-9569-74CD61B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5F5E7-DDF5-4DC4-9E3E-1847508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75D2-3B45-4B0D-815A-6E3A656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D189-80E0-47DA-923B-AD6BE4D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220A-DD7E-4C95-AA19-B30A5347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5515-82E7-4294-B41D-4361D7EF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F1919-2CF2-422C-85C3-9C40CD7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23677-1FA6-4389-8621-29805CF8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3240-0666-4F71-ADD0-702C07B3ADE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6DA-F292-400C-9580-2A1E8C6CC4C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27B-6769-4909-8F84-19202FA104E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7A2-D050-4746-B9B7-74F447D7D32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E530-63AA-49B9-A0C5-3F8D702DF6E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E45-34EB-417F-9B27-510501EAD2F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065-A948-436E-BA01-0C90580212C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7D7-6E82-448B-8543-7136A902A47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MATLAB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LEMA: ÁREA BAJO LA CUR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5f6d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575f6d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5f6d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685800" y="16765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[out1, out2, ...] = myfun(in1, in2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762120" y="2438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t(x): retorna estadistic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[mean,stdev] = sta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ength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(x)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 sqrt(sum((x-mean).^2/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76212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ean stdev] = stat([12.7 45.4 98.9 26.6 53/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40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TORNANDO MÁS DE UN VALOR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ESPUEST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ARREGLOS(“VECTORES”): INICIALIZACIÓ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ones(1,5); disp(a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1 fila de 5 columnas con un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zeros(1,5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 1 fila de 5 columnas con cer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2:9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:incremento:últim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linspace(0,1,5)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, último, nº punt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2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50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7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.0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rand(1,5) %1 fila de 5 cols c/valores al azar en [0,1[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xxxx     0.xxxx     0.xxxx     0.xxxx     0.xxx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MATRICES”: INICIAL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DEX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OPERADORES </a:t>
            </a:r>
            <a:br>
              <a:rPr sz="3600"/>
            </a:b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(PARA MATRICES Y ESCALARES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OPERADORES “PUNTO A PUNTO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1:40:23Z</dcterms:created>
  <dc:creator>jalvarez</dc:creator>
  <dc:description/>
  <dc:language>en-US</dc:language>
  <cp:lastModifiedBy>Victor Ramiro</cp:lastModifiedBy>
  <dcterms:modified xsi:type="dcterms:W3CDTF">2010-06-09T16:10:51Z</dcterms:modified>
  <cp:revision>26</cp:revision>
  <dc:subject/>
  <dc:title>Programación en MATLAB</dc:title>
</cp:coreProperties>
</file>