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492-67B5-463C-8F18-AA7D9190F9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6E0-39EC-44AA-8A45-2788D5AF3C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293-778A-40A7-8F20-4CA5C7EA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23C-1FAA-437C-B997-2D85ED6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F0C-56ED-47A8-985E-448DBD81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101-E1D8-4DF4-9667-E386E01D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AABE-3DF0-4E83-AC85-618DBB18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3F69-CED2-4EF9-BF5B-F190227F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E5DE-4B41-4A7C-BE6F-968CD889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9D8B-FF9E-4E29-BE4C-EE4DCAB1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0F2A-F241-410D-88E5-AED782A3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BC8F-270D-4A86-BD2D-DF44E74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08F-009E-4CEC-8E62-1C29330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68F-A69A-4C7E-9EE9-83174091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70C-63F5-4608-B956-E03ECC5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9E3C-C0D9-480B-A6A6-FFBA363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014-FCA2-4C16-BAF8-A565777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C96-9282-4D22-ABB4-F612CFBB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870B-B3FE-48A7-8771-38250D46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3DCF6-73C1-4DF5-B026-9D009C6E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245B3-FCEB-4733-A8F5-90418017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B0F3F-B8C0-4D78-B08E-59254B2E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E89C9-79D2-4AA8-9417-7872968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EEE8B-9588-45EF-9011-EDC8D15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0CF-9938-4E49-B22F-3B7D8B2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AFC3F-6B36-4CC7-99A9-C40A20E5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F9B77-1C01-49E0-910C-4B88A5D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8DE98-4084-4C38-B837-DE270DE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B6F2F-B4C6-4BAD-8E42-EB5C28D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E9720-141C-4FD4-9603-B8BAF5C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B50C2-9A2F-41A4-B5E1-A25C6C73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B5EED-1CBF-4014-A767-DEF60240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17F1-AC9B-4BA2-89CA-00D5FA85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E6D5-05C6-45B1-9762-ECED469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FC7A-81B1-4342-AB48-B7E69925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9E0-D0F7-40EA-B820-A9F2BC06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C803-DC52-4292-BBAE-D7F29D9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EC3B-F1AB-46CD-997E-CF2BC29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FB59-FC3F-4E2D-94B3-0AAED25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45BF-755C-40B0-ADAD-E12E74B9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F4A1-6912-4F9B-AE28-78C9CCD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73C7-C358-4464-8B91-4B4A05D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98F6-1139-469E-B814-2585AF4B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936C-A979-4A47-9BA7-E3D8D7E9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772F-602F-4212-BCDC-B2D7C379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99C31-F506-48AD-9C50-73B95424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640-496B-4BD1-A0E8-7A993337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1C7CD-1A3D-4120-A11E-61406171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DE7F9-845E-4A04-9621-C9B452FB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C9A3B-35F0-4E84-9524-A252D4D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1C14D-3C0C-4AC9-8DD0-FAB6EB39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308AE-D629-42E1-BFAA-5E76C31B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C03CF-08B5-4D92-8CB8-A7E890E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FF390-588F-40F4-8FE8-2076DF3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540AF-D0C4-48FC-91F9-425936A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5DF17-D76E-4F8C-A350-879DFB8D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E99DA-9028-4ECF-BEB5-8CA3F628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0AA-DF33-49D3-9135-52723D0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19AB6-F7E9-4721-82F6-B492E735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7F92B-02BA-4EA9-A5DF-846B903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59052-6AEC-4408-8906-BE34254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49EFD-7CCB-4AFE-B6E5-50FEC84D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C3A87-C602-448D-9D7B-836AD89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EBC72-0769-4F27-B6CD-BE510B4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8E2D0-320B-4772-AC88-EC5C9A0B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A80E3-41F1-44A3-AA99-9BB19309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6AB96-6B49-40A1-A57B-A5C1DCB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2D842-5C1E-482C-8968-E323415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66F-10CB-4AEF-B190-A1744BB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8A3DD-2ABA-411C-AE42-22C463A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4872F-19B3-42FB-995A-6B5B25EB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484D7-7FEC-4232-9A5D-055AB460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4A57A-FB0B-4D73-ACDA-5D74B4D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C2E2D-4F45-42BD-BEC2-625791F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DD865-DAC3-4C14-94A5-9BF489E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4DC5E-C449-4D82-9428-C5E4F939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60ACE-9D72-4456-918F-2A9FF963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6655B-6854-4DB9-B9AE-62173BD6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EC8D8-CC25-4323-A34F-A13FF86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716-E88C-4BF1-BDC5-93FBC02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77EB8-F2E9-4E92-A8E2-AAFCAFF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2086E-6D05-4E70-ABD7-AFDEBCF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47330-91D2-4FAF-8893-FBF00435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14BD0-D6B9-4453-8344-49F86D76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48C54-6ECA-4C57-ACF7-22A3CA41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5FC9-F602-4AD4-A63F-A8F7FC51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5496-C49A-40D9-8F1E-A6EF6169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A548-5E34-4439-8B6E-047AC5D6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6D34F-8A1E-49F9-B2CC-F477190F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E987-95D8-466C-99BE-8FAA7D08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371-1A4B-4E07-867D-6798812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D000E-2981-4EEA-8680-9685C771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52E1E-7F17-45F1-8645-225B4F7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686D9-6343-40F5-90AC-8F245BA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5BC16-2E03-4AF2-A8C8-5F4A5D4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E7D63-1AE4-4C2F-8A2F-771D578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C0175-D960-44D6-8873-31AF017B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512CF-4440-4CB3-9973-7D3B9A41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0E8F-A92C-4D43-B98F-6A6EA2F40CA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4B71-EE3B-4095-A937-D6105583BA8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A79-082D-44EB-B776-9A697C16C2F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F86F-A7D2-4A6F-9E69-F4B0F46909A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BC7-128D-4651-AED1-A2237428882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B2A5-1333-45E6-8C60-ADB9CB7A0D1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01ED-954A-406B-BD48-46C1342B072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2CA1-DD02-4BD1-8009-EBB1600E33F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MATLAB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BLEMA: ÁREA BAJO LA CUR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5f6d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575f6d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5f6d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685800" y="16765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[out1, out2, ...] = myfun(in1, in2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762120" y="2438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t(x): retorna estadistic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[mean,stdev] = sta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ength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(x)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 sqrt(sum((x-mean).^2/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762120" y="4724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ean stdev] = stat([12.7 45.4 98.9 26.6 53/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40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TORNANDO MÁS DE UN VALOR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ESPUEST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ARREGLOS(“VECTORES”): INICIALIZACIÓ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ones(1,5); disp(a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1 fila de 5 columnas con un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zeros(1,5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 1 fila de 5 columnas con cer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2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2:9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:incremento:últim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linspace(0,1,5)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, último, nº punt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2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50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7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.00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rand(1,5) %1 fila de 5 cols c/valores al azar en [0,1[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xxxx     0.xxxx     0.xxxx     0.xxxx     0.xxx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MATRICES”: INICIAL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DEX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OPERADORES </a:t>
            </a:r>
            <a:br>
              <a:rPr sz="3600"/>
            </a:b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(PARA MATRICES Y ESCALARES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OPERADORES “PUNTO A PUNTO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1:40:23Z</dcterms:created>
  <dc:creator>jalvarez</dc:creator>
  <dc:description/>
  <dc:language>en-US</dc:language>
  <cp:lastModifiedBy>Victor Ramiro</cp:lastModifiedBy>
  <dcterms:modified xsi:type="dcterms:W3CDTF">2010-06-09T16:10:51Z</dcterms:modified>
  <cp:revision>26</cp:revision>
  <dc:subject/>
  <dc:title>Programación en MATLAB</dc:title>
</cp:coreProperties>
</file>