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C0F7-E547-49FC-B743-DFF7FD2500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21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7-mayo 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3E9-CBF1-4F88-B4C3-271600CD3F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AB2-8941-4322-B8EE-C31E482E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CF-79CA-4ED7-971B-89B3CDB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A23-CCBE-43F2-92FA-A60371A6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4DC-8CD9-4DAC-8ED8-A89795C8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FE78-1626-4F6A-9084-70D7522E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BAAF-29FF-429E-BD4E-1373A5F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F605-09F6-4275-8725-0AC2191C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18CB-E6DE-4D61-B08E-1D61C2A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BF8-BDA7-458D-9A36-4E8C5434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80D9-F7B9-4245-A375-355172C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B7A-E318-4D09-8F3D-D5103E8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220-7FCB-4ABF-93EC-8B75222F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EE3F-E0E9-4538-87CC-7445987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575D-F61A-4FD4-A024-43FAA49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10F-3026-4458-91FC-E1DB0CA2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25E2-3183-47C6-A1E6-53FEEFCC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539E-319B-4BA8-A658-F9EFE7A2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F6FAA-041C-4669-B4BD-46A2575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47205-B7F9-40E8-9639-DB3EA1A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DB06F-21EB-4CA0-B176-E33638D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9C780-5FAA-47D3-8943-8EB447C5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3BFA6-90D2-4D57-8C71-9B1D0D5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C1F-F4F1-48CF-8404-704377D1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60B7A-4FD8-41A4-BC0F-5F231A5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B16FA-E779-4966-9152-92CB826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6DB9-0E54-43F7-BE83-F2DFD26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E6695-354B-452F-B750-173EC63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3F040-A404-4BA1-BA8F-8C94DFE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50F69-C207-44D8-847B-7836AAAD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F26C6-3C80-4408-8232-FDB06A95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3281-CD55-4A02-8CD2-BB95E12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A77C-2E3E-49D4-897F-4A22CDD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B4B4-260A-41A7-BE9E-A728BE2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95E-F189-41DA-8940-9A1BB34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EC82-9F1E-4224-BE55-9B288C92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AEC7-1C8E-49FB-A1D4-4B5DB159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B83E-345A-406E-ABCD-F9672807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6950-F38B-4AF3-8744-728EF07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C037-DE3F-4F14-88C6-7DA3F84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A4B0-280F-4402-B417-5CC036F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A722-1E03-4D04-A980-EC9EDB8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73A6-C5E8-4346-89BC-11618A0F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7617C-7131-4556-A8FC-89ABB0B0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12207-A923-4B68-B94F-94F46036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F49-7772-41C0-81D6-B75659B6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4CE57-1FF2-4668-A066-DF0EFC2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4AB23-55A4-4E53-8BDB-5134342C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23577-2672-45BE-A42F-3796356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7B097-792E-44E0-BFB3-8C081C1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44E29-B7E0-4DC4-92B9-B5B0774E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B1CCB-BB99-4471-80BB-4D445A3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B4086-FD40-462E-89B0-EE7E168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4FCF2-4BC2-4BF1-B3DC-5240708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3073B-77D3-487F-877B-3768CA4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0E15B-8C8F-40BB-A565-8B5946A4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C8A-C172-4B19-A1DC-6E52C9E0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45C38-DD13-47B9-B512-ADA072B1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B5134-0EAC-4C1F-A37A-0436F7B0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6B8EF-DFF5-4734-B6F6-4AFE27DF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93099-5AC8-4259-A709-D15C2D3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3E7CA-E299-466A-BD38-90DAEAA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2589E-61D4-4D6A-B01D-E763BFB8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D2F65-8FF3-4DE0-B8B3-D1D8132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21068-54CC-475F-A2EA-4BC6F2A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AC83E-D444-4672-B681-6D69D88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7BAD4-E508-48F5-B6C8-91235FD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B83-F8A4-460C-8EF6-1F4ECE6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D42A3-2F00-4BC5-9730-EE8E934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C32E6-DECA-48A4-9DFA-A3E4E77D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F102E-5459-4FA6-AFF5-98B98087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4E989-B194-4BB2-A19B-B45D6570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123B7-6CE1-4A79-B401-C6861849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89E67-EDDF-4E5B-89AE-3EC02D0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CA794-4F9E-4BF2-9737-A6A55EB9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2E55B-A595-4A69-9EAB-C3DD4578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3F2EA-235F-41C8-A160-2B3C7907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28E70-0110-4AF3-90D9-2F23F6E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2C5-99BF-42D8-B1A0-A22B326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4E94A-9DA4-41A4-9142-11FDCCE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7CF48-90A7-40C1-9FB6-00DE25A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0A0AC-E4F0-419B-9C18-42D8A13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5E3A2-45BE-443D-AD3F-20546D21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29756-6D52-4F9E-9AFB-37AA131E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C709-8401-4BAE-9261-42F2D362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2C51-19A7-4883-ABD5-D016A58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51D4-AE18-4993-9BE1-F511C2B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BE5C-1147-42E1-817F-91261B1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11237-7D0E-4F1B-90A2-1505FF5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304-5C1E-4609-91A9-118B822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EBA0-4586-425A-9F69-8572210E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8443-26CB-40C8-9C58-8BD306F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110E7-50D4-4982-BB67-7A34638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D4C48-CA5A-4145-BE84-BE28AF2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80E0-C60E-4C0B-AE20-99409A3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9CAEE-401A-4B34-8561-41CBF4B4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D0E1-B4C9-4EC8-985C-1B1078FD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9E6-BBB0-4581-B937-D54F33DE650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023-4AA9-41E6-9E3F-304D3E572D7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F51-2F6C-4254-AC20-0ADAECA6ECF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C25D-8568-4095-BBCF-ADB35BAD5DB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C93-3FDB-4A8C-AFB3-1FA78BAABBF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DE0-F79F-4801-807C-80C00B90CEA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A136-7F08-4016-A738-9B21CDC2A3A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67C-0D8E-445D-BA2B-5600076AF42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MATLAB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5f6d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LEMA: ÁREA BAJO LA CURV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5f6d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575f6d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575f6d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575f6d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5f6d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5f6d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575f6d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685800" y="16765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[out1, out2, ...] = myfun(in1, in2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762120" y="2438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t(x): retorna estadistic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[mean,stdev] = sta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ength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(x)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 sqrt(sum((x-mean).^2/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762120" y="472428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ean stdev] = stat([12.7 45.4 98.9 26.6 53/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e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40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TORNANDO MÁS DE UN VALOR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ESPUEST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ARREGLOS(“VECTORES”): INICIALIZACIÓ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ones(1,5); disp(a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1 fila de 5 columnas con un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zeros(1,5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 1 fila de 5 columnas con cer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1:2:9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:incremento:últim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3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linspace(0,1,5)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%primero, último, nº punt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2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50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7500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1.00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&gt;&gt;a=rand(1,5) %1 fila de 5 cols c/valores al azar en [0,1[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0.xxxx     0.xxxx     0.xxxx     0.xxxx     0.xxxx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MATRICES”: INICIAL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DEX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OPERADORES </a:t>
            </a:r>
            <a:br>
              <a:rPr sz="3600"/>
            </a:br>
            <a:r>
              <a:rPr b="0" lang="es-ES" sz="3600" spc="-1" strike="noStrike">
                <a:solidFill>
                  <a:srgbClr val="575f6d"/>
                </a:solidFill>
                <a:latin typeface="Century Schoolbook"/>
              </a:rPr>
              <a:t>(PARA MATRICES Y ESCALARES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OPERADORES “PUNTO A PUNTO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1:40:23Z</dcterms:created>
  <dc:creator>jalvarez</dc:creator>
  <dc:description/>
  <dc:language>en-US</dc:language>
  <cp:lastModifiedBy>Victor Ramiro</cp:lastModifiedBy>
  <dcterms:modified xsi:type="dcterms:W3CDTF">2010-06-09T16:10:51Z</dcterms:modified>
  <cp:revision>26</cp:revision>
  <dc:subject/>
  <dc:title>Programación en MATLAB</dc:title>
</cp:coreProperties>
</file>