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1: MAT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7-mayo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51CA-D00D-429A-934A-31E1C7FAF3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21: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7-mayo 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CB82-FF2A-4220-8D47-7A51663744A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2C9E-AF37-49DA-900C-796C20DA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E28-92AB-4A99-BDD8-218B5409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D3CB-72AD-46B7-8522-BF2F7D22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52E-C5C8-4FFD-A51A-CA8947D9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D8D2-16B4-424E-9736-19FDE4D7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5FC1-9832-442C-9567-1C96BC50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B66E-9374-4CA6-8C4E-E7020656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2C7B-695C-4F6B-B16B-7768E39A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2532-2E55-49CD-BDBC-2D80A284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C9DA-D35B-4957-B208-12B53728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3E67-3919-43BB-87CD-ABE88649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17E7-05A7-448A-84B4-B02885B3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FC8A-4C97-45DC-862B-F0F333F2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FE00-BBDD-4A87-88E0-9955F92D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6BC7-A44A-4E64-8A13-2B82FB64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83F4-4D49-4137-84B3-4824A881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AB5B-92B4-46D9-BACE-647BB071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0AC63-4127-4A3A-AABA-09C5A21E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FB87F-7A2E-4350-A42A-50F24A2F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B8B8C7-7D0C-483F-AA8C-05FAEC19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4866B-E312-4A7B-948D-B0EC2196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F1277-8A33-4682-9AF5-EF95D1B4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ECE1-289E-4B40-8887-7DDC7EF3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DB26F-1A1B-4DAA-982D-45E64A55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AB70E-1E9C-47FC-9C4B-352CCE7D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DA3F7A-629D-4147-8837-DF343EF7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89AD9-923B-4E7B-A072-86167D11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369D3-C968-4CBF-AF83-0EA519FF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0CA20-218E-41C7-93B3-9B46E8D6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85D76-E3CF-49BB-9030-1ED1A527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3F861-BE39-4015-A4F3-D2DD8B79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62CAD-20BF-4D1B-BC28-418525C8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75B0F-C4CC-47F1-9566-D3D5BF54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FFD4-EE57-4210-9120-0FDFA95E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BE698-DD39-430D-9F7E-31AFA87E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48C7A-3153-4048-884D-A4F87316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08D45-9856-4F0B-8CBF-D4455476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D5876-AC98-4AE2-B5A5-B321B4F9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4F4DA-5C55-4281-940F-6EF5B5D1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BF7B9-183D-492B-B62D-B7920ED4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C9C5B-D2FD-45A2-B8CD-7A097384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4A269-C93E-4432-AA9F-F985DA83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71008-F56C-4F94-B34E-27D0F7C2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B193C-82BB-4081-B5A5-1F32DE0A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3053-C8BB-4510-829C-93FB48E1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E5C13D-D819-42E0-A85D-1EA9A589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9758E-9C2A-4F95-BC41-2A1C7645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7FC9FE-FCDC-40A2-8912-AA02F6AE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DE51BB-C965-4BE2-AC80-DD6E279C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B577E7-EA16-40D7-AEB5-AD629C79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195CA-32F8-40F9-9D76-EB451F9F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18A46E-1DBF-486C-989F-3077DEAD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6BB91E-7BDC-4F1F-9E3A-B567E02F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8B4CC3-E45A-4FCF-B78B-EC796C28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8745D2-E195-4845-9363-B07F0620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A78-6C93-4CFF-9881-7C22FCF4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CE042B-9050-4355-8EA6-79EA3BD0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202347-ADDF-4582-93A5-03F81E71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1F4210-D1B1-40AD-A056-0857F411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4EFDB9-2729-454C-8E00-674F0183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8C9E07-6C43-41BF-85BE-23A1F7D0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7EA8B3-9E02-42D4-BE2B-E395EF62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E3B829-0E06-4A65-9AAC-E4BC1328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675CCC-4075-4AD5-A322-74AAB800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F00573-1BFB-4F7D-904D-5A38E289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4E02F9-11B7-4482-9080-7067B502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DBD4-1FBD-40BD-B7B9-01BAECF0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82EBCB-A2D9-48DF-835C-8B4184D6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261695-689F-4A90-982D-238CEC76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EC5A93-1C21-470B-85AA-100D1EA9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6B9C9B-EFD0-48D0-9D6C-D3184024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08EB20-A00F-492A-B27B-41AB5BE0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98BF0D-34A1-4CCA-ABB7-343D6D1F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A51524-C888-46BD-BFAE-F94752D9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CF18BF-239A-44AD-917F-76C4EBF9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8BBF5B-F840-42D2-AC41-D77E9F18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72E1FF-0447-41F9-BFC2-43A77987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494-5605-4568-B79F-6C488E5C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A8AF51-E7B4-4BF8-B595-C8250078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ACEDEC-53C1-4970-AC47-08281171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56DEB0-3F8C-4793-BAE7-3925398F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B2A0C9-59D5-450F-A25B-357CCBB7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D113DF-EE80-4BC0-BD66-E287E349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BE042-6523-4648-B504-220FF937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BECD6-AC7E-424D-BF2C-FCC9BF30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DCF5C-612A-4A43-A220-A7128A02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A3E56-4D70-4759-B946-3B753453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4B173-6863-4179-A68F-2BD7EF31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986-A5CD-4D62-9475-FE0B35DF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5739C-3A10-442C-B8DC-46C34AEC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855BF-F6D9-401F-BAB1-5A5BA92E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661B8-5EAB-40FD-B24B-1CC930CC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F278C-2223-4A20-8416-765A619E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B3E56-DA68-4784-B56F-72D70451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6B729-8E0D-4EED-BDF6-7B359FD3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68E10-FF60-4FEF-993B-B79A407D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6478-C9A2-4E2A-834D-CE881914FB2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DC71-1C76-4EC3-A1BC-109CCD70E56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2829-03EF-44C1-85D1-2B738C62E76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C5DC-3372-4E19-A4DF-70BCB1323D9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3451-7A0E-4A0A-A9A2-7C0582A4CDC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96AA-6DE5-4C32-A0AD-DC549D2B949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CD99-E358-4CDF-A831-A6051A24D07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EBA4-C822-45A9-862A-D9E166DF115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75f6d"/>
                </a:solidFill>
                <a:latin typeface="Century Schoolbook"/>
              </a:rPr>
              <a:t>MATLAB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76500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4"/>
          <p:cNvSpPr/>
          <p:nvPr/>
        </p:nvSpPr>
        <p:spPr>
          <a:xfrm>
            <a:off x="457200" y="274680"/>
            <a:ext cx="8075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5f6d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rea con editor de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4"/>
          <p:cNvSpPr/>
          <p:nvPr/>
        </p:nvSpPr>
        <p:spPr>
          <a:xfrm>
            <a:off x="457200" y="274680"/>
            <a:ext cx="814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5f6d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395280" y="907920"/>
            <a:ext cx="84978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575f6d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457200" y="1557360"/>
            <a:ext cx="85075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pol(a,x): polinomio de coefs a en argumento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*2^0 + 2*2^1 + 3*2^2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PROBLEMA: ÁREA BAJO LA CURV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Nota. Programe alguno de los métod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tángulos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+…+y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pecios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...+y 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/2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75f6d"/>
                </a:solidFill>
                <a:latin typeface="Times New Roman"/>
              </a:rPr>
              <a:t>Simpson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/3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...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que 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), 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f(b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delta=ancho de intervalos=(b-a)/(n-1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250920" y="260280"/>
            <a:ext cx="8713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575f6d"/>
                </a:solidFill>
                <a:latin typeface="Arial"/>
              </a:rPr>
              <a:t>Sol. </a:t>
            </a:r>
            <a:r>
              <a:rPr b="0" lang="es-CL" sz="4400" spc="-1" strike="noStrike">
                <a:solidFill>
                  <a:srgbClr val="575f6d"/>
                </a:solidFill>
                <a:latin typeface="Times New Roman"/>
              </a:rPr>
              <a:t>Rectángulos: </a:t>
            </a:r>
            <a:r>
              <a:rPr b="0" lang="el-GR" sz="4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Δ</a:t>
            </a:r>
            <a:r>
              <a:rPr b="0" lang="es-CL" sz="4400" spc="-1" strike="noStrike">
                <a:solidFill>
                  <a:srgbClr val="575f6d"/>
                </a:solidFill>
                <a:latin typeface="Times New Roman"/>
              </a:rPr>
              <a:t>(y</a:t>
            </a:r>
            <a:r>
              <a:rPr b="0" lang="es-CL" sz="4400" spc="-1" strike="noStrike" baseline="-25000">
                <a:solidFill>
                  <a:srgbClr val="575f6d"/>
                </a:solidFill>
                <a:latin typeface="Times New Roman"/>
              </a:rPr>
              <a:t>1</a:t>
            </a:r>
            <a:r>
              <a:rPr b="0" lang="es-CL" sz="4400" spc="-1" strike="noStrike">
                <a:solidFill>
                  <a:srgbClr val="575f6d"/>
                </a:solidFill>
                <a:latin typeface="Times New Roman"/>
              </a:rPr>
              <a:t>+…+y</a:t>
            </a:r>
            <a:r>
              <a:rPr b="0" lang="es-CL" sz="4400" spc="-1" strike="noStrike" baseline="-25000">
                <a:solidFill>
                  <a:srgbClr val="575f6d"/>
                </a:solidFill>
                <a:latin typeface="Times New Roman"/>
              </a:rPr>
              <a:t>n-1</a:t>
            </a:r>
            <a:r>
              <a:rPr b="0" lang="es-CL" sz="4400" spc="-1" strike="noStrike">
                <a:solidFill>
                  <a:srgbClr val="575f6d"/>
                </a:solidFill>
                <a:latin typeface="Times New Roman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79280" y="1557360"/>
            <a:ext cx="87854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%area(a,b,n): area de f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en [a,b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usando n-1 rectáng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=(b-a)/(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x=linspace(a,b,n-1);%a,a+delta,…,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f(x);   % f(a),f(a+delta),… ,f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r=delta*(sum(y)-y(end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5f6d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5"/>
          <p:cNvSpPr/>
          <p:nvPr/>
        </p:nvSpPr>
        <p:spPr>
          <a:xfrm>
            <a:off x="250920" y="438120"/>
            <a:ext cx="8642160" cy="54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575f6d"/>
                </a:solidFill>
                <a:latin typeface="Times New Roman"/>
              </a:rPr>
              <a:t>Sol. Trapecios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575f6d"/>
                </a:solidFill>
                <a:latin typeface="Arial"/>
              </a:rPr>
              <a:t>Δ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...+y 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)/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area(a,b,n): area de f en [a,b] %usando n-1 trape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=linspace(a,b,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(b-a)/(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(sum(y)-(y(1)+y(end))/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4"/>
          <p:cNvSpPr/>
          <p:nvPr/>
        </p:nvSpPr>
        <p:spPr>
          <a:xfrm>
            <a:off x="179280" y="22680"/>
            <a:ext cx="8785440" cy="54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575f6d"/>
                </a:solidFill>
                <a:latin typeface="Times New Roman"/>
              </a:rPr>
              <a:t>Sol. Simps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575f6d"/>
                </a:solidFill>
                <a:latin typeface="Arial"/>
              </a:rPr>
              <a:t>Δ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/3*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...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area(a,b,n):area de f en [a,b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usando n p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area(a,b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lta=(b-a)/(n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es = a+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ares = a+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 =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3 * (f(a)+4*sum(f(pares))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sum(f(impares))+f(b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685800" y="16765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[out1, out2, ...] = myfun(in1, in2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762120" y="2438280"/>
            <a:ext cx="647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stat(x): retorna estadisticos bás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[mean,stdev] = stat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length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sum(x)/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ev = sqrt(sum((x-mean).^2/n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762120" y="472428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mean stdev] = stat([12.7 45.4 98.9 26.6 53/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.3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ev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.40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TORNANDO MÁS DE UN VALOR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RESPUEST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x=[1 2 3 4 5 6];  %punto y coma suprime “eco” de la ins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75f6d"/>
                </a:solidFill>
                <a:latin typeface="Century Schoolbook"/>
              </a:rPr>
              <a:t>ARREGLOS(“VECTORES”): INICIALIZACIÓ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ones(1,5); disp(a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%1 fila de 5 columnas con uno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 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zeros(1,5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% 1 fila de 5 columnas con cero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 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1:5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2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1:2:9 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%primero:incremento:últim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3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7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linspace(0,1,5) 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%primero, último, nº punto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.250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.500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.750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.000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rand(1,5) %1 fila de 5 cols c/valores al azar en [0,1[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.xxxx     0.xxxx     0.xxxx     0.xxxx     0.xxxx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“</a:t>
            </a: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MATRICES”: INICIALIZ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DEX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a = [5 4 3 2 1]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(5)  % a(end) o a(length(a)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ns =    “variable por omisión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 = [1 2  3 ; 4 5 6]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(2,3)    % arreglo(nºfila,nº colum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a(1,: ) %fila 1           &gt;&gt;a(:,2) %columna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2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3                      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a(2,1:2) %primeras 2 columnas de fila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4  5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75f6d"/>
                </a:solidFill>
                <a:latin typeface="Century Schoolbook"/>
              </a:rPr>
              <a:t>OPERADORES </a:t>
            </a:r>
            <a:br>
              <a:rPr sz="3600"/>
            </a:br>
            <a:r>
              <a:rPr b="0" lang="es-ES" sz="3600" spc="-1" strike="noStrike">
                <a:solidFill>
                  <a:srgbClr val="575f6d"/>
                </a:solidFill>
                <a:latin typeface="Century Schoolbook"/>
              </a:rPr>
              <a:t>(PARA MATRICES Y ESCALARES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 inte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+2)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 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/y  =  y\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+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-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JEMPL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OPERADORES “PUNTO A PUNTO”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x .\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\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JEMPL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&gt;&gt;a .*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&gt;&gt; a 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1:40:23Z</dcterms:created>
  <dc:creator>jalvarez</dc:creator>
  <dc:description/>
  <dc:language>en-US</dc:language>
  <cp:lastModifiedBy>Victor Ramiro</cp:lastModifiedBy>
  <dcterms:modified xsi:type="dcterms:W3CDTF">2010-06-09T16:10:51Z</dcterms:modified>
  <cp:revision>26</cp:revision>
  <dc:subject/>
  <dc:title>Programación en MATLAB</dc:title>
</cp:coreProperties>
</file>