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8BE-9643-4970-BE03-68679244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2AD3-6AD7-4BF6-AA10-46C42B39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C69-DE66-4A29-9BE5-B68D6A2D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7B6-0668-4261-8739-10A8661B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163-8524-41A4-A3B5-FB8C6C10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6CA-1CC0-4700-8B5D-35A05998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A54-5746-407C-AB73-74095885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5EE9-1338-4AA4-9C79-5D94644A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EB4-E1AA-4FEE-955B-55CBE8CC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81D-BB58-46EA-941C-A8A1045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F12-ACC7-4D97-94BF-4F20BFF6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9F9-5D88-45B6-B7BE-B78595F8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810F-A4F2-49D6-943E-3122B2015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496800"/>
          <a:ext cx="85662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5662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716360" y="3357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1720" y="457200"/>
          <a:ext cx="838692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57200"/>
                    <a:ext cx="83869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2860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538200"/>
          <a:ext cx="804060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38200"/>
                    <a:ext cx="804060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8200" y="604800"/>
          <a:ext cx="8296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604800"/>
                    <a:ext cx="8296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46040"/>
          <a:ext cx="835020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46040"/>
                    <a:ext cx="835020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1200" y="550800"/>
          <a:ext cx="820260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50800"/>
                    <a:ext cx="8202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07960" y="546120"/>
          <a:ext cx="83059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4612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57200" y="457200"/>
          <a:ext cx="849960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49960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30360" y="619200"/>
          <a:ext cx="814068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19200"/>
                    <a:ext cx="81406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673200" y="523800"/>
          <a:ext cx="8067600" cy="579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3200" y="523800"/>
                    <a:ext cx="80676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95280" y="903240"/>
          <a:ext cx="8350200" cy="504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03240"/>
                    <a:ext cx="8350200" cy="50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44680" y="581040"/>
          <a:ext cx="79531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79531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58800" y="333360"/>
          <a:ext cx="8485200" cy="61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33360"/>
                    <a:ext cx="848520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04800" y="550800"/>
          <a:ext cx="80424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50800"/>
                    <a:ext cx="80424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68440" y="519120"/>
          <a:ext cx="8350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519120"/>
                    <a:ext cx="8350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843120"/>
          <a:ext cx="801360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43120"/>
                    <a:ext cx="801360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25400" y="484200"/>
          <a:ext cx="79614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484200"/>
                    <a:ext cx="79614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66800" y="495360"/>
          <a:ext cx="80154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95360"/>
                    <a:ext cx="80154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60400" y="577800"/>
          <a:ext cx="7732800" cy="567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577800"/>
                    <a:ext cx="773280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2:51:47Z</dcterms:created>
  <dc:creator>jalvarez</dc:creator>
  <dc:description/>
  <dc:language>en-US</dc:language>
  <cp:lastModifiedBy>jalvarez</cp:lastModifiedBy>
  <cp:lastPrinted>2005-08-24T12:55:15Z</cp:lastPrinted>
  <dcterms:modified xsi:type="dcterms:W3CDTF">2009-10-10T14:32:32Z</dcterms:modified>
  <cp:revision>15</cp:revision>
  <dc:subject/>
  <dc:title>Sin título de diapositiva</dc:title>
</cp:coreProperties>
</file>