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E66-DE14-4C02-9978-EADE59E6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F8B-60EE-4159-8416-63FDF3A4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3E2-8755-4560-8B9B-7BD90E85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1E6-2C02-4615-86A2-A094A3DA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E5D-292F-4055-80BB-B1D0087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F9F-B296-4827-8D25-399489F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E18-2410-4412-A2B3-FA93377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1AE-7A12-4EC8-BD06-297ABD4A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F73-D935-4854-A68D-76D344C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D67-9155-49FC-A427-5CBD498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5FF-03EE-4F4E-8ED2-CA57AF5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A2B-DE17-476F-92C5-3E52478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562-6E18-49CD-900C-3FE2F4CDD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496800"/>
          <a:ext cx="85662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5662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716360" y="3357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538200"/>
          <a:ext cx="80406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38200"/>
                    <a:ext cx="80406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8200" y="604800"/>
          <a:ext cx="8296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604800"/>
                    <a:ext cx="8296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550800"/>
          <a:ext cx="820260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50800"/>
                    <a:ext cx="820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73200" y="523800"/>
          <a:ext cx="8067600" cy="579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523800"/>
                    <a:ext cx="80676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4800" y="550800"/>
          <a:ext cx="8042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042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25400" y="484200"/>
          <a:ext cx="7961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84200"/>
                    <a:ext cx="7961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77800"/>
          <a:ext cx="77328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77800"/>
                    <a:ext cx="77328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9-10-10T14:32:32Z</dcterms:modified>
  <cp:revision>15</cp:revision>
  <dc:subject/>
  <dc:title>Sin título de diapositiva</dc:title>
</cp:coreProperties>
</file>