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80CB-5193-43B1-AAA6-0B4768B1F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0F94-3A17-4E74-BA49-A8F1EF7B2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0750-CFB4-466A-A326-8FCED53F9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AB35-40BD-4E50-8C0A-929D37C22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CDEB-525B-4A05-916D-93946DF1F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13A9-FEB3-49F9-A510-F2FA58992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C9BD-1F11-4EA6-87EF-A5E77647C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F720-F2E1-4898-A460-C42E9A88D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8BE8-5B3E-4C76-866A-00AA5E2C3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A302-9D26-433A-B0BF-7D30E6F53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CC13-64EF-4C95-A033-53E5E012C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B203-D6EB-434F-9186-C8D20A2B5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2E110-8122-46AF-A282-BBFDCF0739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511200" y="496800"/>
          <a:ext cx="8566200" cy="6400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200" y="496800"/>
                    <a:ext cx="8566200" cy="64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4716360" y="33577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531720" y="457200"/>
          <a:ext cx="8386920" cy="6419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1720" y="457200"/>
                    <a:ext cx="8386920" cy="641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2286000" y="18288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658800" y="538200"/>
          <a:ext cx="8040600" cy="5835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8800" y="538200"/>
                    <a:ext cx="8040600" cy="583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538200" y="604800"/>
          <a:ext cx="8296200" cy="568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8200" y="604800"/>
                    <a:ext cx="8296200" cy="568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630360" y="446040"/>
          <a:ext cx="8350200" cy="6097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446040"/>
                    <a:ext cx="8350200" cy="609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511200" y="550800"/>
          <a:ext cx="8202600" cy="5877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200" y="550800"/>
                    <a:ext cx="8202600" cy="587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507960" y="546120"/>
          <a:ext cx="8305920" cy="5943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960" y="546120"/>
                    <a:ext cx="830592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457200" y="457200"/>
          <a:ext cx="8499600" cy="6705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57200"/>
                    <a:ext cx="8499600" cy="670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630360" y="619200"/>
          <a:ext cx="8140680" cy="5429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619200"/>
                    <a:ext cx="8140680" cy="542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673200" y="523800"/>
          <a:ext cx="8067600" cy="57960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3200" y="523800"/>
                    <a:ext cx="8067600" cy="579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95280" y="903240"/>
          <a:ext cx="8350200" cy="5046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903240"/>
                    <a:ext cx="8350200" cy="504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544680" y="581040"/>
          <a:ext cx="7953120" cy="6049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4680" y="581040"/>
                    <a:ext cx="7953120" cy="604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658800" y="333360"/>
          <a:ext cx="8485200" cy="6120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8800" y="333360"/>
                    <a:ext cx="8485200" cy="612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604800" y="550800"/>
          <a:ext cx="8042400" cy="5634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4800" y="550800"/>
                    <a:ext cx="8042400" cy="563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568440" y="519120"/>
          <a:ext cx="8350200" cy="6037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8440" y="519120"/>
                    <a:ext cx="8350200" cy="603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685800" y="843120"/>
          <a:ext cx="8013600" cy="5846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43120"/>
                    <a:ext cx="8013600" cy="584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725400" y="484200"/>
          <a:ext cx="7961400" cy="6172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5400" y="484200"/>
                    <a:ext cx="7961400" cy="617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766800" y="495360"/>
          <a:ext cx="8015400" cy="5962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6800" y="495360"/>
                    <a:ext cx="8015400" cy="596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860400" y="577800"/>
          <a:ext cx="7732800" cy="5675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0400" y="577800"/>
                    <a:ext cx="7732800" cy="567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3T12:51:47Z</dcterms:created>
  <dc:creator>jalvarez</dc:creator>
  <dc:description/>
  <dc:language>en-US</dc:language>
  <cp:lastModifiedBy>jalvarez</cp:lastModifiedBy>
  <cp:lastPrinted>2005-08-24T12:55:15Z</cp:lastPrinted>
  <dcterms:modified xsi:type="dcterms:W3CDTF">2009-10-10T14:32:32Z</dcterms:modified>
  <cp:revision>15</cp:revision>
  <dc:subject/>
  <dc:title>Sin título de diapositiva</dc:title>
</cp:coreProperties>
</file>