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854-4894-45CC-B7A1-E3E916F3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917-BA82-46DA-9DA7-BD96638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DB2-71A2-4556-A98F-7FDE18BF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A47-9A4C-48B3-8C2C-A0A84EBA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04B-7942-4418-A2A8-4212534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CBB-72D1-4050-81DD-D6E019E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D85-3511-43B6-A366-AF6CC789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F54-9DCA-474C-9599-BD61E31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A64-2F64-490D-A355-DE4E1291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FBA-C7A9-43B8-85C2-6A83DA5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169-6628-4EBF-B9C3-20934DA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7B3-4B53-4CF6-A19A-643F258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7A55-96E5-4D60-9129-04226AFC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496800"/>
          <a:ext cx="85662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5662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716360" y="3357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538200"/>
          <a:ext cx="80406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38200"/>
                    <a:ext cx="80406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8200" y="604800"/>
          <a:ext cx="8296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604800"/>
                    <a:ext cx="8296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550800"/>
          <a:ext cx="820260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50800"/>
                    <a:ext cx="820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73200" y="523800"/>
          <a:ext cx="8067600" cy="579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523800"/>
                    <a:ext cx="80676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4800" y="550800"/>
          <a:ext cx="8042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042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25400" y="484200"/>
          <a:ext cx="7961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84200"/>
                    <a:ext cx="7961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77800"/>
          <a:ext cx="77328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77800"/>
                    <a:ext cx="77328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9-10-10T14:32:32Z</dcterms:modified>
  <cp:revision>15</cp:revision>
  <dc:subject/>
  <dc:title>Sin título de diapositiva</dc:title>
</cp:coreProperties>
</file>