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55960" cy="48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-360"/>
            <a:ext cx="2952720" cy="48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B039D1F-9935-49F3-BC0E-4969BFF5FF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559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6701E19-C3D5-4C26-A691-58C54FC78B5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559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2FC17FD-6C4E-4596-9FA6-A0ED2E8C60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CF9-036A-497F-923E-D670F2C3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BD7-CC3E-4AB4-92DB-A559D9E0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9D8-96E0-42ED-A0AC-1707B1A5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F86-9C5B-41B1-BAD0-1B6C8DF6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AD5-81F0-46B2-B436-1D9C2B9E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0A5-832A-4587-9026-5EC98C9D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0AC-21AA-4C39-9D0C-0DEFB0C3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80D-CBAD-480B-90E0-EB699BD4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DC7-4A08-4CE5-9ADE-3F0866DB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B94-4DAB-4EEA-A304-8B047889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91B-6114-4608-A6D9-A710BA0A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9C2-1914-4245-A057-648480AA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4F68-8A01-4F4E-BD95-EE62A3539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4600" y="120600"/>
          <a:ext cx="8780400" cy="71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20600"/>
                    <a:ext cx="878040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9200" y="658800"/>
          <a:ext cx="81342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8800"/>
                    <a:ext cx="81342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93640" y="568440"/>
          <a:ext cx="849780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68440"/>
                    <a:ext cx="84978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03200" y="565200"/>
          <a:ext cx="86868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65200"/>
                    <a:ext cx="86868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538200"/>
          <a:ext cx="83232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3232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84200" y="538200"/>
          <a:ext cx="82026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2026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84200" y="457200"/>
          <a:ext cx="8699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57200"/>
                    <a:ext cx="8699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250920" y="7495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. calculando término del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true; i+=2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Math.abs(termino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psilon) break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437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5. abrevi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h.abs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+=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otangente: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no: 1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!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!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aritmo natura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Z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. . .) con Z =(x-1)/(x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04720" y="685800"/>
          <a:ext cx="84470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685800"/>
                    <a:ext cx="84470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68440" y="506520"/>
          <a:ext cx="84373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4373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46200" y="538200"/>
          <a:ext cx="8067600" cy="56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38200"/>
                    <a:ext cx="806760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17600" y="511200"/>
          <a:ext cx="8713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713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0400" y="550800"/>
          <a:ext cx="770580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50800"/>
                    <a:ext cx="77058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23800" y="577800"/>
          <a:ext cx="8175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23800" y="577800"/>
          <a:ext cx="81756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8400" y="511200"/>
          <a:ext cx="8136000" cy="61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11200"/>
                    <a:ext cx="81360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4:36:52Z</dcterms:created>
  <dc:creator>jalvarez</dc:creator>
  <dc:description/>
  <dc:language>en-US</dc:language>
  <cp:lastModifiedBy>Victor Ramiro</cp:lastModifiedBy>
  <cp:lastPrinted>2006-08-19T16:06:24Z</cp:lastPrinted>
  <dcterms:modified xsi:type="dcterms:W3CDTF">2010-06-01T20:13:16Z</dcterms:modified>
  <cp:revision>31</cp:revision>
  <dc:subject/>
  <dc:title>Sin título de diapositiva</dc:title>
</cp:coreProperties>
</file>