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55960" cy="48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-360"/>
            <a:ext cx="2952720" cy="48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99366D4-93E3-4B42-9EDA-192FC9FD5D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55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43197F8-105F-45A6-BDD0-F6A8CA3084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55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436072C-6D0B-4443-90DD-47E24CF66E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9C4-F0D0-463A-8D2B-C9E26E40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DB3-472F-4C4A-B058-F5DBE826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5E7-A7EF-481C-99E2-32BD716E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A63-6781-4556-82E7-2475FC85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E27-7485-411C-89D1-F78E51B6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7BC-3131-4E5D-A98D-6118E0CC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D33-C66E-432E-812E-2515E603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87D-83E6-42E1-B98E-698B8B40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802-9701-437B-9D24-82ED74C7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F4E-A993-4E63-A9CC-1F6F8B48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1BF-438B-4BCB-9220-0A340FA6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47A-4E96-445C-AA03-43CDD37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E498-9757-4B34-9E2F-5E1C7C30F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4600" y="120600"/>
          <a:ext cx="8780400" cy="71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20600"/>
                    <a:ext cx="87804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9200" y="658800"/>
          <a:ext cx="81342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8800"/>
                    <a:ext cx="81342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93640" y="568440"/>
          <a:ext cx="84978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68440"/>
                    <a:ext cx="84978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03200" y="565200"/>
          <a:ext cx="86868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65200"/>
                    <a:ext cx="86868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538200"/>
          <a:ext cx="83232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3232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84200" y="538200"/>
          <a:ext cx="82026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2026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84200" y="457200"/>
          <a:ext cx="8699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57200"/>
                    <a:ext cx="8699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250920" y="7495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. calculando término de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true; i+=2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Math.abs(termino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psilon) break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437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5. abrevi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h.abs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+=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tangente: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no: 1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!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!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aritmo natur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Z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. . .) con Z =(x-1)/(x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04720" y="685800"/>
          <a:ext cx="84470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685800"/>
                    <a:ext cx="84470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68440" y="506520"/>
          <a:ext cx="84373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4373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46200" y="538200"/>
          <a:ext cx="80676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38200"/>
                    <a:ext cx="80676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17600" y="511200"/>
          <a:ext cx="8713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713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0400" y="550800"/>
          <a:ext cx="770580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50800"/>
                    <a:ext cx="77058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23800" y="577800"/>
          <a:ext cx="8175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23800" y="577800"/>
          <a:ext cx="81756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8400" y="511200"/>
          <a:ext cx="8136000" cy="61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11200"/>
                    <a:ext cx="81360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4:36:52Z</dcterms:created>
  <dc:creator>jalvarez</dc:creator>
  <dc:description/>
  <dc:language>en-US</dc:language>
  <cp:lastModifiedBy>Victor Ramiro</cp:lastModifiedBy>
  <cp:lastPrinted>2006-08-19T16:06:24Z</cp:lastPrinted>
  <dcterms:modified xsi:type="dcterms:W3CDTF">2010-06-01T20:13:16Z</dcterms:modified>
  <cp:revision>31</cp:revision>
  <dc:subject/>
  <dc:title>Sin título de diapositiva</dc:title>
</cp:coreProperties>
</file>