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55960" cy="48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9: Computación nu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-360"/>
            <a:ext cx="2952720" cy="48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7000"/>
            <a:ext cx="5022720" cy="4462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412200"/>
            <a:ext cx="2952720" cy="48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7BFB009-F0E3-4E2A-BD4D-1A551D9DDB7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559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9: Computación nu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3360" y="9412200"/>
            <a:ext cx="295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BCC78D2-026B-48E7-9ACE-C691C1CCA95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7000"/>
            <a:ext cx="5022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559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9: Computación nu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3360" y="9412200"/>
            <a:ext cx="295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618F658-71A1-4E96-B863-A4125D18E9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7000"/>
            <a:ext cx="5022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288-D38C-4794-850D-FABB78C7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708-AC81-4462-9822-E9D39F7F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CA0-32E1-49C0-9135-BB22E748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61B-9F0F-4A79-8BD9-91AD8F9A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575-4038-4837-A239-4BB9D66E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A15-3CFF-420E-A38F-ADE4DE6F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98D-86D6-4D40-BF8A-F8750E97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739-0D85-41DD-8EC1-262D41DC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0B8-24DE-4191-BCF5-4BC00EBE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A16-F95F-432B-8230-31AA456F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CF7-B5D6-4C22-A7C7-0CAC720F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AC9-B255-48C8-875E-1A07BB79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2E0F-9E87-4B2B-BD1B-44FA5A4F5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4600" y="120600"/>
          <a:ext cx="8780400" cy="71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20600"/>
                    <a:ext cx="8780400" cy="71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19200" y="658800"/>
          <a:ext cx="81342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8800"/>
                    <a:ext cx="81342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93640" y="568440"/>
          <a:ext cx="8497800" cy="64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68440"/>
                    <a:ext cx="849780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03200" y="565200"/>
          <a:ext cx="86868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65200"/>
                    <a:ext cx="86868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4200" y="538200"/>
          <a:ext cx="83232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3232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84200" y="538200"/>
          <a:ext cx="82026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2026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84200" y="457200"/>
          <a:ext cx="86994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57200"/>
                    <a:ext cx="86994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250920" y="74952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4. calculando término del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true; i+=2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Math.abs(termino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psilon) break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4374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5. abrevi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h.abs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+=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otangente: 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eno: 1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!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!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aritmo natura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 Z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. . .) con Z =(x-1)/(x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04720" y="685800"/>
          <a:ext cx="844704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685800"/>
                    <a:ext cx="844704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568440" y="506520"/>
          <a:ext cx="84373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4373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46200" y="538200"/>
          <a:ext cx="8067600" cy="56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38200"/>
                    <a:ext cx="806760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17600" y="511200"/>
          <a:ext cx="8713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713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0400" y="550800"/>
          <a:ext cx="770580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50800"/>
                    <a:ext cx="77058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23800" y="577800"/>
          <a:ext cx="8175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23800" y="577800"/>
          <a:ext cx="817560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8400" y="511200"/>
          <a:ext cx="8136000" cy="61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11200"/>
                    <a:ext cx="813600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4:36:52Z</dcterms:created>
  <dc:creator>jalvarez</dc:creator>
  <dc:description/>
  <dc:language>en-US</dc:language>
  <cp:lastModifiedBy>Victor Ramiro</cp:lastModifiedBy>
  <cp:lastPrinted>2006-08-19T16:06:24Z</cp:lastPrinted>
  <dcterms:modified xsi:type="dcterms:W3CDTF">2010-06-01T20:13:16Z</dcterms:modified>
  <cp:revision>31</cp:revision>
  <dc:subject/>
  <dc:title>Sin título de diapositiva</dc:title>
</cp:coreProperties>
</file>