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55960" cy="485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9: Computación numé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3360" y="-360"/>
            <a:ext cx="2952720" cy="485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9720" y="730080"/>
            <a:ext cx="4976640" cy="373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7400" y="4707000"/>
            <a:ext cx="5022720" cy="4462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12200"/>
            <a:ext cx="2955960" cy="487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3360" y="9412200"/>
            <a:ext cx="2952720" cy="487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F0B20391-D0C4-4B3D-8BB4-BF5AB11B28E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29559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9: Computación numé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9412200"/>
            <a:ext cx="29559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43360" y="9412200"/>
            <a:ext cx="2952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C76E934F-D051-43BD-9B26-4D272623B72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9720" y="730080"/>
            <a:ext cx="4976640" cy="37324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87400" y="4707000"/>
            <a:ext cx="50227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559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9: Computación numé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9412200"/>
            <a:ext cx="29559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43360" y="9412200"/>
            <a:ext cx="2952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F56D7CB7-8169-4F47-AA61-D0A37012B54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09720" y="730080"/>
            <a:ext cx="4976640" cy="37324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87400" y="4707000"/>
            <a:ext cx="50227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9D41-4FFB-4A38-BC8D-7B752B4A2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0455-148F-4051-B907-6ED409B0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1959-A171-43A9-AA1A-3E15C73D3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0AA7-ED88-43F1-9E55-8E07E1516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C08C-02C0-4FFB-B0F0-7BDB00CE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6316-FEA5-4F4A-A5EA-859444D2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7870-A9FD-4B8D-90ED-5C1A8490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2E68-667C-40DA-A5BF-E463D5E4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60F0-6697-472D-A39D-A67B79D4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6DC9-8741-4B27-ABBD-C38D1A14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B665-BE13-428C-B71C-29D9773C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4C51-F963-46DD-BD82-4AB39080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3E07-F585-47A3-BCBF-BBCDEE63A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504720" y="517680"/>
          <a:ext cx="8494920" cy="702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517680"/>
                    <a:ext cx="8494920" cy="70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74600" y="120600"/>
          <a:ext cx="8780400" cy="714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120600"/>
                    <a:ext cx="8780400" cy="714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619200" y="658800"/>
          <a:ext cx="8134200" cy="56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658800"/>
                    <a:ext cx="8134200" cy="56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593640" y="568440"/>
          <a:ext cx="8497800" cy="64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68440"/>
                    <a:ext cx="8497800" cy="64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03200" y="565200"/>
          <a:ext cx="8686800" cy="56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65200"/>
                    <a:ext cx="868680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84200" y="538200"/>
          <a:ext cx="832320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538200"/>
                    <a:ext cx="832320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84200" y="538200"/>
          <a:ext cx="8202600" cy="56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538200"/>
                    <a:ext cx="820260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84200" y="457200"/>
          <a:ext cx="86994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57200"/>
                    <a:ext cx="86994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250920" y="749520"/>
            <a:ext cx="835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4. calculando término del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eno(double x,double epsil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uma=x, termino=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3; true; i+=2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rmi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)/((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Math.abs(termino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=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psilon) break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um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termin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u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0" y="4374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5. abrevi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eno(double x,double epsil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uma=x, termino=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h.abs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rmin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)/((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)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psil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+=2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termin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u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otangente: x –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5 - 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eno: 1 –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!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4! - 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aritmo natural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( Z + Z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 + Z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5 + . . .) con Z =(x-1)/(x+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04720" y="685800"/>
          <a:ext cx="8447040" cy="56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685800"/>
                    <a:ext cx="844704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568440" y="506520"/>
          <a:ext cx="8437320" cy="619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506520"/>
                    <a:ext cx="8437320" cy="61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646200" y="538200"/>
          <a:ext cx="8067600" cy="56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200" y="538200"/>
                    <a:ext cx="8067600" cy="56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17600" y="511200"/>
          <a:ext cx="8713800" cy="64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511200"/>
                    <a:ext cx="8713800" cy="64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860400" y="550800"/>
          <a:ext cx="7705800" cy="597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0400" y="550800"/>
                    <a:ext cx="7705800" cy="59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23800" y="577800"/>
          <a:ext cx="81756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77800"/>
                    <a:ext cx="8175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523800" y="577800"/>
          <a:ext cx="817560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77800"/>
                    <a:ext cx="817560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698400" y="511200"/>
          <a:ext cx="8136000" cy="61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511200"/>
                    <a:ext cx="8136000" cy="61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14:36:52Z</dcterms:created>
  <dc:creator>jalvarez</dc:creator>
  <dc:description/>
  <dc:language>en-US</dc:language>
  <cp:lastModifiedBy>Victor Ramiro</cp:lastModifiedBy>
  <cp:lastPrinted>2006-08-19T16:06:24Z</cp:lastPrinted>
  <dcterms:modified xsi:type="dcterms:W3CDTF">2010-06-01T20:13:16Z</dcterms:modified>
  <cp:revision>31</cp:revision>
  <dc:subject/>
  <dc:title>Sin título de diapositiva</dc:title>
</cp:coreProperties>
</file>