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5596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52720" cy="485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90A27AE-4286-4993-9B8A-45BD6C4552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089195E-1CF8-4430-BC6D-871E4E428B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55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9: Computación nu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3360" y="9412200"/>
            <a:ext cx="2952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84814EA-D925-430E-A6FB-9E199436AF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7000"/>
            <a:ext cx="50227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A30-07A0-4FE5-A9FB-A1711C06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CB0-1B22-4E28-981E-A3FB61F6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DEC-9ADA-47F7-8833-FB1BA11E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539-8154-497C-A6B6-5E42AAC7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E28-0857-4275-BB6D-D9AA8C3C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14A-BF51-410B-8CC0-5276A993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F59-7B95-47E5-B8C8-5D466BAD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12E-69F7-499E-BD82-5C7865E0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4C02-C00C-4F59-A5F6-135A989D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6CD-0E63-4E81-A3C3-30D5B74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61D-1D2B-452E-BBD2-CB22FD73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14A-3FD6-410C-AE6D-50DB28E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B6E9-BFFC-4886-B731-F951F5DD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4600" y="120600"/>
          <a:ext cx="8780400" cy="714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20600"/>
                    <a:ext cx="8780400" cy="71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9200" y="658800"/>
          <a:ext cx="81342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8800"/>
                    <a:ext cx="81342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93640" y="568440"/>
          <a:ext cx="8497800" cy="64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68440"/>
                    <a:ext cx="849780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03200" y="565200"/>
          <a:ext cx="86868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65200"/>
                    <a:ext cx="86868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538200"/>
          <a:ext cx="83232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3232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84200" y="538200"/>
          <a:ext cx="820260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538200"/>
                    <a:ext cx="820260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84200" y="457200"/>
          <a:ext cx="8699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57200"/>
                    <a:ext cx="8699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250920" y="74952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. calculando término del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true; i+=2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rmi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Math.abs(termino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psilon) break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437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5. abrevi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eno(double x,double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uma=x, termino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h.abs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rmin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)/((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)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+=2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termi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u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otangente: x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eno: 1 –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!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! -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aritmo natural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 Z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+ Z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. . .) con Z =(x-1)/(x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04720" y="685800"/>
          <a:ext cx="8447040" cy="56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685800"/>
                    <a:ext cx="844704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68440" y="506520"/>
          <a:ext cx="843732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43732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46200" y="538200"/>
          <a:ext cx="8067600" cy="56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538200"/>
                    <a:ext cx="8067600" cy="56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17600" y="511200"/>
          <a:ext cx="8713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511200"/>
                    <a:ext cx="8713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0400" y="550800"/>
          <a:ext cx="7705800" cy="59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50800"/>
                    <a:ext cx="77058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23800" y="577800"/>
          <a:ext cx="8175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577800"/>
          <a:ext cx="817560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77800"/>
                    <a:ext cx="817560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511200"/>
          <a:ext cx="8136000" cy="61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11200"/>
                    <a:ext cx="813600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4:36:52Z</dcterms:created>
  <dc:creator>jalvarez</dc:creator>
  <dc:description/>
  <dc:language>en-US</dc:language>
  <cp:lastModifiedBy>Victor Ramiro</cp:lastModifiedBy>
  <cp:lastPrinted>2006-08-19T16:06:24Z</cp:lastPrinted>
  <dcterms:modified xsi:type="dcterms:W3CDTF">2010-06-01T20:13:16Z</dcterms:modified>
  <cp:revision>31</cp:revision>
  <dc:subject/>
  <dc:title>Sin título de diapositiva</dc:title>
</cp:coreProperties>
</file>