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55D-8F38-4420-BE38-F200E736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534F-763F-4B92-8408-C2404015B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B08-E2A4-43AE-818C-18C8E284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561-7397-44A6-BADC-F7ECC0A3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73D-A5EC-4C9A-8A06-BF09F870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2E8A-8648-4778-AB20-0E175850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651-61DE-432D-AFD9-53B272CB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394B-F445-40E4-ADAA-7AFD92A2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E74-1EBC-4F78-B6FA-80460AE17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6EB-B4C3-4C29-B3CA-1C43404F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1F2-2485-4BBC-9D59-08D02938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D5A3-4A11-4B66-9E10-061F8E4A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495A4-3B61-468A-85EB-763D95CB9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Repaso/resumen: Introducción a la Programación orientada a obje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rch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lases y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He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Venta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Gráf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0)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readLine(“nº/nº?”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“más lejana=“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30200" y="469800"/>
          <a:ext cx="8942400" cy="672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200" y="469800"/>
                    <a:ext cx="8942400" cy="672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23800" y="565200"/>
          <a:ext cx="7988400" cy="648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565200"/>
                    <a:ext cx="7988400" cy="64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84200" y="390600"/>
          <a:ext cx="8269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390600"/>
                    <a:ext cx="8269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9800" y="523800"/>
          <a:ext cx="8069400" cy="559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523800"/>
                    <a:ext cx="8069400" cy="559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593640" y="557280"/>
          <a:ext cx="8448840" cy="596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557280"/>
                    <a:ext cx="844884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847800" y="538200"/>
          <a:ext cx="8080200" cy="5916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538200"/>
                    <a:ext cx="8080200" cy="591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90600" y="417600"/>
          <a:ext cx="85248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417600"/>
                    <a:ext cx="85248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03200" y="363600"/>
          <a:ext cx="8578800" cy="646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63600"/>
                    <a:ext cx="8578800" cy="646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03200" y="336600"/>
          <a:ext cx="8620200" cy="673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336600"/>
                    <a:ext cx="8620200" cy="673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419040" y="482760"/>
          <a:ext cx="8496360" cy="67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040" y="482760"/>
                    <a:ext cx="8496360" cy="67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92200" y="309600"/>
          <a:ext cx="8431200" cy="645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200" y="309600"/>
                    <a:ext cx="8431200" cy="645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17600" y="390600"/>
          <a:ext cx="84978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390600"/>
                    <a:ext cx="84978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55680" y="380880"/>
          <a:ext cx="867420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680" y="380880"/>
                    <a:ext cx="867420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69800" y="349200"/>
          <a:ext cx="88488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49200"/>
                    <a:ext cx="88488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42444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perandos y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ivate double op1,op2; private char 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void actionPerformed(ActionEvent x)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//obtener bo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utton b=(Button)x.getSour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obtener primer caracter de texto del botó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har c=b.getLabel().charA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tender boton (y actualizar vis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ring s;//nuevo contenido de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witch(c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Q': System.exit(0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C': s="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S': s="-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.': s=visor.getText()+"."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default:  s=visor.getText()+c; break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díg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89000"/>
            <a:ext cx="8496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+' : case '-': case '*': case '/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guardar primer operando y operac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1=Double.parseDouble(visor.getText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p=c; s=“”; break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ase '='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realizar operación entre operando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op2=Double.parseDouble(visor.getText()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witch(op){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+': op1+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-': op1-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*': op1*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case '/': op1/=op2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}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s=""+op1; break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/actualizar vis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visor.setText(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49200" y="484200"/>
          <a:ext cx="8755200" cy="607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84200"/>
                    <a:ext cx="87552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-316080"/>
            <a:ext cx="8686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333360"/>
            <a:ext cx="8686800" cy="53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readLine(x+” si o no?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O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ierte string. Ej:inverso(“roma”)=“a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.length()==0) return “”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verso(x.substring(1))+x.charAt(0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picua: capicua(“reconocer”)=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capicua(String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.equals(inverso(x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0755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rchivos de tex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6640"/>
            <a:ext cx="914400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mport java.io.*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CopiarArchivos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R I=new BR(new FR(U.readLine(“input?”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W O=new PW(new FW(U.readLine(“output?”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c=0, nl=0; String line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 ++nl; nc+=linea.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 I.close(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U.println(nl+“ líneas “+nc+” caracteres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ta. ¿Sin usar clas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BR kb=new BR(new InputStreamReader(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in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System.out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.print(“input?”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String linea=kb.readLin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90720" y="507960"/>
          <a:ext cx="7683480" cy="622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07960"/>
                    <a:ext cx="7683480" cy="62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1280" y="0"/>
            <a:ext cx="7416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Objeto de clase Frac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539640" y="404640"/>
          <a:ext cx="7917120" cy="6821640"/>
        </p:xfrm>
        <a:graphic>
          <a:graphicData uri="http://schemas.openxmlformats.org/drawingml/2006/table">
            <a:tbl>
              <a:tblPr/>
              <a:tblGrid>
                <a:gridCol w="1100160"/>
                <a:gridCol w="513000"/>
                <a:gridCol w="515880"/>
                <a:gridCol w="1830240"/>
                <a:gridCol w="565200"/>
                <a:gridCol w="2441520"/>
                <a:gridCol w="439920"/>
                <a:gridCol w="5112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étodos públ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resent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truc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cio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ig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dimi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d m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if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po/clase f(…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ado                                                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ul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971640" y="234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270828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781360"/>
            <a:ext cx="50472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572000" y="357336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292640"/>
            <a:ext cx="50472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16000" y="4149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6000" y="59500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643280" y="3789360"/>
            <a:ext cx="64944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642920" y="5300640"/>
            <a:ext cx="576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6237360"/>
            <a:ext cx="41767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1413000"/>
            <a:ext cx="64818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7640" y="1413000"/>
            <a:ext cx="0" cy="518472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7640" y="6597720"/>
            <a:ext cx="655344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8101080" y="1341000"/>
            <a:ext cx="0" cy="525636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65200" y="390600"/>
          <a:ext cx="801360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200" y="390600"/>
                    <a:ext cx="80136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84200" y="496800"/>
          <a:ext cx="8350200" cy="649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96800"/>
                    <a:ext cx="8350200" cy="649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9-04-28T13:28:01Z</dcterms:modified>
  <cp:revision>40</cp:revision>
  <dc:subject/>
  <dc:title>Sin título de diapositiva</dc:title>
</cp:coreProperties>
</file>