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4C39-FE0B-4595-8089-D7D4FF825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CA1F-0BCA-4C33-BEA6-3B48A48B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541C-FDB9-4DD2-9B1E-E49F650C1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DB26-21F1-4FEF-9664-FC876ACD3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CE0C-CB43-44A8-A593-C37F1708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79A4-7D41-4014-A3C4-1753647F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C7D1-6AF4-4328-B0A9-D3609046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12C9-66FA-4C9D-8A2E-B37F08D2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CDD4-F8EC-4063-ACA0-2DCA20A5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968B-DBCE-47C8-8C9B-D3899B57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CC53-7163-441E-8682-BEDC993C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4194-1B4A-480C-9CBA-2F2AA6E4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5AE5-3E61-45AB-9A0B-CDD5880EF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Repaso/resumen: Introducción a la Programación orientada a obje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rch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lases y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Her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Venta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bu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Gráf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Uso de objetos de una c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Fracción más lejana (del promedi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f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readLine(“nº/nº?”)), s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0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min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max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cero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while(!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cero)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um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; ++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ax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gt;0) 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in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lt;0) min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asign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readLine(“nº/nº?”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dividi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new F(n)); //promed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U.println(“más lejana=“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compareT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in))&gt;0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max : min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)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30200" y="469800"/>
          <a:ext cx="8942400" cy="672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69800"/>
                    <a:ext cx="8942400" cy="672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23800" y="565200"/>
          <a:ext cx="7988400" cy="648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65200"/>
                    <a:ext cx="7988400" cy="64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84200" y="390600"/>
          <a:ext cx="8269200" cy="645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390600"/>
                    <a:ext cx="82692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469800" y="523800"/>
          <a:ext cx="8069400" cy="559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23800"/>
                    <a:ext cx="8069400" cy="55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593640" y="557280"/>
          <a:ext cx="8448840" cy="596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57280"/>
                    <a:ext cx="8448840" cy="59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847800" y="538200"/>
          <a:ext cx="8080200" cy="5916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7800" y="538200"/>
                    <a:ext cx="8080200" cy="59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90600" y="417600"/>
          <a:ext cx="8524800" cy="67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17600"/>
                    <a:ext cx="8524800" cy="67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403200" y="363600"/>
          <a:ext cx="8578800" cy="64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363600"/>
                    <a:ext cx="8578800" cy="64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03200" y="336600"/>
          <a:ext cx="8620200" cy="673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336600"/>
                    <a:ext cx="8620200" cy="673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419040" y="482760"/>
          <a:ext cx="8496360" cy="670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482760"/>
                    <a:ext cx="8496360" cy="67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92200" y="309600"/>
          <a:ext cx="8431200" cy="645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309600"/>
                    <a:ext cx="84312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17600" y="390600"/>
          <a:ext cx="8497800" cy="62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90600"/>
                    <a:ext cx="84978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55680" y="380880"/>
          <a:ext cx="8674200" cy="627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380880"/>
                    <a:ext cx="8674200" cy="627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469800" y="349200"/>
          <a:ext cx="8848800" cy="72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349200"/>
                    <a:ext cx="8848800" cy="72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9280" y="42444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operandos y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double op1,op2; private char 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void actionPerformed(ActionEvent x)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//obtener bot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utton b=(Button)x.getSourc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obtener primer caracter de texto del botó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har c=b.getLabel().charAt(0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atender boton (y actualizar vis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;//nuevo contenido de vis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itch(c)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Q': System.exit(0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C': s=""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S': s="-"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.': s=visor.getText()+"."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default:  s=visor.getText()+c; break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díg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189000"/>
            <a:ext cx="8496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'+' : case '-': case '*': case '/'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guardar primer operando y operac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op1=Double.parseDouble(visor.getText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p=c; s=“”; break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'='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realizar operación entre operando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op2=Double.parseDouble(visor.getText()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switch(op)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+': op1+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-': op1-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*': op1*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/': op1/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s=""+op1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actualizar vis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isor.setText(s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}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49200" y="484200"/>
          <a:ext cx="8755200" cy="607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484200"/>
                    <a:ext cx="8755200" cy="60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-316080"/>
            <a:ext cx="86868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333360"/>
            <a:ext cx="8686800" cy="53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una respuesta “si” o “n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O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r=U.readLine(x+” si o no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trim().toLowerCa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r.equals(“si”)||r.equals(“no”))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 :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O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invierte string. Ej:inverso(“roma”)=“am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.length()==0) return “”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nverso(x.substring(1))+x.charAt(0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apicua: capicua(“reconocer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boolean capicua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.equals(inverso(x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74680"/>
            <a:ext cx="80755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chivos de tex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836640"/>
            <a:ext cx="914400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CopiarArchivos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String[]args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R I=new BR(new FR(U.readLine(“input?”)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W O=new PW(new FW(U.readLine(“output?”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c=0, nl=0; String line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(linea=I.readLine())!= null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println(linea); ++nl; nc+=linea.length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close(); I.close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U.println(nl+“ líneas “+nc+” caracteres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ota. ¿Sin usar clase 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BR kb=new BR(new InputStreamReader(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System.in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.print(“input?”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String linea=kb.readLin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90720" y="507960"/>
          <a:ext cx="7683480" cy="622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07960"/>
                    <a:ext cx="7683480" cy="62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1280" y="0"/>
            <a:ext cx="7416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Objeto de clase Fra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39640" y="404640"/>
          <a:ext cx="7917120" cy="6821640"/>
        </p:xfrm>
        <a:graphic>
          <a:graphicData uri="http://schemas.openxmlformats.org/drawingml/2006/table">
            <a:tbl>
              <a:tblPr/>
              <a:tblGrid>
                <a:gridCol w="1100160"/>
                <a:gridCol w="513000"/>
                <a:gridCol w="515880"/>
                <a:gridCol w="1830240"/>
                <a:gridCol w="565200"/>
                <a:gridCol w="2441520"/>
                <a:gridCol w="439920"/>
                <a:gridCol w="5112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todos públi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resen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u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ccio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ig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dimie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d m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if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/clase f(…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ado                                             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ul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971640" y="2349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70828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2781360"/>
            <a:ext cx="50472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572000" y="3573360"/>
            <a:ext cx="50472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4292640"/>
            <a:ext cx="50472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16000" y="4149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6000" y="59500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643280" y="3789360"/>
            <a:ext cx="64944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642920" y="5300640"/>
            <a:ext cx="576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6237360"/>
            <a:ext cx="4176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1413000"/>
            <a:ext cx="64818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7640" y="1413000"/>
            <a:ext cx="0" cy="51847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7640" y="6597720"/>
            <a:ext cx="655344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8101080" y="1341000"/>
            <a:ext cx="0" cy="52563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65200" y="390600"/>
          <a:ext cx="80136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390600"/>
                    <a:ext cx="8013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84200" y="496800"/>
          <a:ext cx="8350200" cy="649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96800"/>
                    <a:ext cx="8350200" cy="649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6-04-13T19:29:55Z</cp:lastPrinted>
  <dcterms:modified xsi:type="dcterms:W3CDTF">2009-04-28T13:28:01Z</dcterms:modified>
  <cp:revision>40</cp:revision>
  <dc:subject/>
  <dc:title>Sin título de diapositiva</dc:title>
</cp:coreProperties>
</file>