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2574-7CB7-4ABA-B9FB-4EDA7509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574-AC5E-49C8-A173-8E8851A2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2DD1-B23F-4658-B360-29C0A3E7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8B54-4072-479B-8F07-DA2D87AD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EE3-107D-4674-9B43-2AE9F15F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E56E-66D3-42E0-BFC7-126BF5E5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CFDE-E0E9-46A5-B11F-90B1C076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EE3-89BA-434D-AE49-EB92E2CC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9F8-05A0-4545-9433-0C2F6E3C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AADB-5A69-4077-8A56-B7A51275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8F1F-2D32-4AA2-8981-0391A015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936E-EB00-4663-9509-6655091A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6303-2AB2-415D-B081-C80DD4443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paso/resumen: Introducción a la Programación orientada a obje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0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“más lejana=“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30200" y="469800"/>
          <a:ext cx="894240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69800"/>
                    <a:ext cx="894240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23800" y="565200"/>
          <a:ext cx="7988400" cy="648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65200"/>
                    <a:ext cx="7988400" cy="64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84200" y="390600"/>
          <a:ext cx="8269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390600"/>
                    <a:ext cx="8269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69800" y="523800"/>
          <a:ext cx="8069400" cy="55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23800"/>
                    <a:ext cx="806940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593640" y="557280"/>
          <a:ext cx="844884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44884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847800" y="538200"/>
          <a:ext cx="8080200" cy="591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7800" y="538200"/>
                    <a:ext cx="808020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90600" y="417600"/>
          <a:ext cx="85248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17600"/>
                    <a:ext cx="85248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03200" y="363600"/>
          <a:ext cx="8578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63600"/>
                    <a:ext cx="8578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03200" y="336600"/>
          <a:ext cx="8620200" cy="673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36600"/>
                    <a:ext cx="8620200" cy="67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19040" y="482760"/>
          <a:ext cx="8496360" cy="67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482760"/>
                    <a:ext cx="849636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92200" y="309600"/>
          <a:ext cx="8431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309600"/>
                    <a:ext cx="8431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17600" y="390600"/>
          <a:ext cx="84978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90600"/>
                    <a:ext cx="84978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55680" y="380880"/>
          <a:ext cx="867420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80880"/>
                    <a:ext cx="867420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69800" y="349200"/>
          <a:ext cx="88488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49200"/>
                    <a:ext cx="88488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42444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perandos y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double op1,op2; private char 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actionPerformed(ActionEvent x)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//obtener bo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tton b=(Button)x.getSour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btener primer caracter de texto del botó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har c=b.getLabel().charA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tender boton (y actualizar vis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;//nuevo contenido de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tch(c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Q': System.exi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C': s="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S': s="-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.': s=visor.getText()+".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default:  s=visor.getText()+c; break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189000"/>
            <a:ext cx="8496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+' : case '-': case '*': case '/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guardar primer operando y operac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1=Double.parseDouble(visor.getTex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=c; s=“”; break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=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realizar operación entre operand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2=Double.parseDouble(visor.getText()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witch(op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+': op1+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-': op1-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*': op1*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/': op1/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=""+op1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ctualizar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sor.setText(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49200" y="484200"/>
          <a:ext cx="8755200" cy="60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84200"/>
                    <a:ext cx="87552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333360"/>
            <a:ext cx="868680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ierte string. Ej:inverso(“roma”)=“a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.length()==0) return “”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verso(x.substring(1))+x.charAt(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apicua: capicua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capicua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.equals(inverso(x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075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de tex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CopiarArchivos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String[]args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R I=new BR(new FR(U.readLine(“input?”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W O=new PW(new FW(U.readLine(“output?”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c=0, nl=0; String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 ++nl; nc+=linea.lengt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ta. ¿Sin usar clas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BR kb=new BR(new InputStreamReader(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.print(“input?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tring linea=kb.readLin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0720" y="507960"/>
          <a:ext cx="7683480" cy="622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07960"/>
                    <a:ext cx="768348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1280" y="0"/>
            <a:ext cx="7416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Objeto de clase F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9640" y="404640"/>
          <a:ext cx="7917120" cy="6821640"/>
        </p:xfrm>
        <a:graphic>
          <a:graphicData uri="http://schemas.openxmlformats.org/drawingml/2006/table">
            <a:tbl>
              <a:tblPr/>
              <a:tblGrid>
                <a:gridCol w="1100160"/>
                <a:gridCol w="513000"/>
                <a:gridCol w="515880"/>
                <a:gridCol w="1830240"/>
                <a:gridCol w="565200"/>
                <a:gridCol w="2441520"/>
                <a:gridCol w="439920"/>
                <a:gridCol w="511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s públ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cio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ig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d m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/clase f(…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ado        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u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971640" y="234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08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781360"/>
            <a:ext cx="5047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572000" y="3573360"/>
            <a:ext cx="50472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429264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4149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5950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643280" y="3789360"/>
            <a:ext cx="6494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642920" y="530064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6237360"/>
            <a:ext cx="4176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1413000"/>
            <a:ext cx="64818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1413000"/>
            <a:ext cx="0" cy="51847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6597720"/>
            <a:ext cx="655344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101080" y="1341000"/>
            <a:ext cx="0" cy="5256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65200" y="390600"/>
          <a:ext cx="80136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390600"/>
                    <a:ext cx="801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84200" y="496800"/>
          <a:ext cx="8350200" cy="649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96800"/>
                    <a:ext cx="8350200" cy="649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9-04-28T13:28:01Z</dcterms:modified>
  <cp:revision>40</cp:revision>
  <dc:subject/>
  <dc:title>Sin título de diapositiva</dc:title>
</cp:coreProperties>
</file>