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74F86-0612-4FAE-8D65-AAD6F03E1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C3E2E-29CD-40E6-9697-ACF2E40F1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4D15F-F94F-4BCB-BF92-8EA72019D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03062-5D5E-4ED5-9332-73355A6D9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97319-12D2-4AD1-950A-96837F2C7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DBEC0-09F8-40D8-A0AA-D9BB3C32B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F26C1-CF2C-4A3E-AB9D-362956B18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83947-56CB-4A24-935D-FDDA4B8FB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14D50-F43F-4485-A86B-109D9464F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A94DF-AE5D-4FC9-94A3-4BDDDDD73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64F33-A5A6-42DD-A2EA-A618F9AE4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A91C0-5812-49D4-846D-3B48A2CAB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7A14A-4C1C-4A2F-9F74-C701341042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Times New Roman"/>
              </a:rPr>
              <a:t>Repaso/resumen: Introducción a la Programación orientada a objet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Str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Archiv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Clases y obje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Herenc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Ventan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Dibuj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Gráfic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Uso de objetos de una cl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57200" y="1371600"/>
            <a:ext cx="8229600" cy="47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//Fracción más lejana (del promedio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F f=new 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U.readLine(“nº/nº?”)), s=new 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0)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min=new 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f), max=new 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f), cero=new 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int n=0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while(!f.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equals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cero))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s.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sumar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f); ++n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if(f.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compareTo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max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&gt;0) max.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asignar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(f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if(f.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compareTo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min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&lt;0) min.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asignar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(f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f.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asignar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U.readLine(“nº/nº?”)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s.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dividir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(new F(n)); //promedi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U.println(“más lejana=“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(max.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resta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(s).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compareTo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(s.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resta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(min))&gt;0 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max : min).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to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() 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430200" y="469800"/>
          <a:ext cx="8942400" cy="6724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0200" y="469800"/>
                    <a:ext cx="8942400" cy="672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"/>
          <p:cNvGraphicFramePr/>
          <p:nvPr/>
        </p:nvGraphicFramePr>
        <p:xfrm>
          <a:off x="523800" y="565200"/>
          <a:ext cx="7988400" cy="6481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3800" y="565200"/>
                    <a:ext cx="7988400" cy="648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484200" y="390600"/>
          <a:ext cx="8269200" cy="6454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4200" y="390600"/>
                    <a:ext cx="8269200" cy="645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" name=""/>
          <p:cNvGraphicFramePr/>
          <p:nvPr/>
        </p:nvGraphicFramePr>
        <p:xfrm>
          <a:off x="469800" y="523800"/>
          <a:ext cx="8069400" cy="5594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523800"/>
                    <a:ext cx="8069400" cy="559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3" name=""/>
          <p:cNvGraphicFramePr/>
          <p:nvPr/>
        </p:nvGraphicFramePr>
        <p:xfrm>
          <a:off x="593640" y="557280"/>
          <a:ext cx="8448840" cy="5960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3640" y="557280"/>
                    <a:ext cx="8448840" cy="596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" name=""/>
          <p:cNvGraphicFramePr/>
          <p:nvPr/>
        </p:nvGraphicFramePr>
        <p:xfrm>
          <a:off x="847800" y="538200"/>
          <a:ext cx="8080200" cy="59166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47800" y="538200"/>
                    <a:ext cx="8080200" cy="591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" name=""/>
          <p:cNvGraphicFramePr/>
          <p:nvPr/>
        </p:nvGraphicFramePr>
        <p:xfrm>
          <a:off x="390600" y="417600"/>
          <a:ext cx="8524800" cy="6723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0600" y="417600"/>
                    <a:ext cx="8524800" cy="672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" name=""/>
          <p:cNvGraphicFramePr/>
          <p:nvPr/>
        </p:nvGraphicFramePr>
        <p:xfrm>
          <a:off x="403200" y="363600"/>
          <a:ext cx="8578800" cy="6467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363600"/>
                    <a:ext cx="8578800" cy="646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" name=""/>
          <p:cNvGraphicFramePr/>
          <p:nvPr/>
        </p:nvGraphicFramePr>
        <p:xfrm>
          <a:off x="403200" y="336600"/>
          <a:ext cx="8620200" cy="6737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336600"/>
                    <a:ext cx="8620200" cy="673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" name=""/>
          <p:cNvGraphicFramePr/>
          <p:nvPr/>
        </p:nvGraphicFramePr>
        <p:xfrm>
          <a:off x="419040" y="482760"/>
          <a:ext cx="8496360" cy="6705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040" y="482760"/>
                    <a:ext cx="8496360" cy="670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592200" y="309600"/>
          <a:ext cx="8431200" cy="6454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2200" y="309600"/>
                    <a:ext cx="8431200" cy="645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5" name=""/>
          <p:cNvGraphicFramePr/>
          <p:nvPr/>
        </p:nvGraphicFramePr>
        <p:xfrm>
          <a:off x="417600" y="390600"/>
          <a:ext cx="8497800" cy="6292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7600" y="390600"/>
                    <a:ext cx="8497800" cy="629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"/>
          <p:cNvGraphicFramePr/>
          <p:nvPr/>
        </p:nvGraphicFramePr>
        <p:xfrm>
          <a:off x="355680" y="380880"/>
          <a:ext cx="8674200" cy="6274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5680" y="380880"/>
                    <a:ext cx="8674200" cy="627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9" name=""/>
          <p:cNvGraphicFramePr/>
          <p:nvPr/>
        </p:nvGraphicFramePr>
        <p:xfrm>
          <a:off x="469800" y="349200"/>
          <a:ext cx="8848800" cy="7234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349200"/>
                    <a:ext cx="8848800" cy="723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79280" y="424440"/>
            <a:ext cx="8964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/operandos y ope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rivate double op1,op2; private char 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ublic void actionPerformed(ActionEvent x){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//obtener bot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utton b=(Button)x.getSource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/obtener primer caracter de texto del botó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char c=b.getLabel().charAt(0)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/atender boton (y actualizar viso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ring s;//nuevo contenido de viso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witch(c){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case 'Q': System.exit(0)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case 'C': s=""; break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case 'S': s="-"; break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case '.': s=visor.getText()+"."; break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default:  s=visor.getText()+c; break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/dígi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324000" y="189000"/>
            <a:ext cx="8496000" cy="70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ase '+' : case '-': case '*': case '/'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/guardar primer operando y operac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op1=Double.parseDouble(visor.getText()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p=c; s=“”; break;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ase '='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/realizar operación entre operando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op2=Double.parseDouble(visor.getText())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switch(op){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case '+': op1+=op2; break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case '-': op1-=op2; break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case '*': op1*=op2; break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case '/': op1/=op2; break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}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s=""+op1; break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/actualizar viso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visor.setText(s)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}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349200" y="484200"/>
          <a:ext cx="8755200" cy="6078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9200" y="484200"/>
                    <a:ext cx="8755200" cy="607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-316080"/>
            <a:ext cx="8686800" cy="11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50920" y="333360"/>
            <a:ext cx="8686800" cy="531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//obtener una respuesta “si” o “no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static public String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siOno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String x)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String r=U.readLine(x+” si o no?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.trim().toLowerCase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r.equals(“si”)||r.equals(“no”)) 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 :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siOno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//invierte string. Ej:inverso(“roma”)=“am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static public String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inverso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String x)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f(x.length()==0) return “”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inverso(x.substring(1))+x.charAt(0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//capicua: capicua(“reconocer”)=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static public boolean capicua(String x)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x.equals(inverso(x)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57200" y="274680"/>
            <a:ext cx="807552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Archivos de tex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836640"/>
            <a:ext cx="9144000" cy="56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mport java.io.*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class CopiarArchivos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static public void 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main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(String[]args)throws IOException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BR I=new BR(new FR(U.readLine(“input?”))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PW O=new PW(new FW(U.readLine(“output?”)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nt nc=0, nl=0; String line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while((linea=I.readLine())!= null)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O.println(linea); ++nl; nc+=linea.length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O.close(); I.close(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U.println(nl+“ líneas “+nc+” caracteres”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}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ota. ¿Sin usar clase U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BR kb=new BR(new InputStreamReader(</a:t>
            </a:r>
            <a:r>
              <a:rPr b="1" lang="es-CL" sz="2400" spc="-1" strike="noStrike">
                <a:solidFill>
                  <a:srgbClr val="000000"/>
                </a:solidFill>
                <a:latin typeface="Courier New"/>
              </a:rPr>
              <a:t>System.in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</a:rPr>
              <a:t>System.out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.print(“input?”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String linea=kb.readLine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990720" y="507960"/>
          <a:ext cx="7683480" cy="6222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507960"/>
                    <a:ext cx="7683480" cy="622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11280" y="0"/>
            <a:ext cx="741672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Times New Roman"/>
              </a:rPr>
              <a:t>Objeto de clase Fracció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539640" y="404640"/>
          <a:ext cx="7917120" cy="6821640"/>
        </p:xfrm>
        <a:graphic>
          <a:graphicData uri="http://schemas.openxmlformats.org/drawingml/2006/table">
            <a:tbl>
              <a:tblPr/>
              <a:tblGrid>
                <a:gridCol w="1100160"/>
                <a:gridCol w="513000"/>
                <a:gridCol w="515880"/>
                <a:gridCol w="1830240"/>
                <a:gridCol w="565200"/>
                <a:gridCol w="2441520"/>
                <a:gridCol w="439920"/>
                <a:gridCol w="511200"/>
              </a:tblGrid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étodos públic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presentac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</a:t>
                      </a: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ivad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structo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accion(…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sign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cedimien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oid m(…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dific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2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unc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po/clase f(…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 </a:t>
                      </a: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sultado                                                             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</a:t>
                      </a: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sult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" name=""/>
          <p:cNvSpPr/>
          <p:nvPr/>
        </p:nvSpPr>
        <p:spPr>
          <a:xfrm>
            <a:off x="971640" y="2349360"/>
            <a:ext cx="129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0" y="2708280"/>
            <a:ext cx="50472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72000" y="2781360"/>
            <a:ext cx="504720" cy="21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4572000" y="3573360"/>
            <a:ext cx="504720" cy="719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0" y="4292640"/>
            <a:ext cx="504720" cy="720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16000" y="414972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116000" y="595008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4643280" y="3789360"/>
            <a:ext cx="649440" cy="18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4642920" y="5300640"/>
            <a:ext cx="57636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572000" y="6237360"/>
            <a:ext cx="417672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19280" y="1413000"/>
            <a:ext cx="6481800" cy="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547640" y="1413000"/>
            <a:ext cx="0" cy="518472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47640" y="6597720"/>
            <a:ext cx="6553440" cy="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8101080" y="1341000"/>
            <a:ext cx="0" cy="525636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565200" y="390600"/>
          <a:ext cx="8013600" cy="6858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5200" y="390600"/>
                    <a:ext cx="80136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484200" y="496800"/>
          <a:ext cx="8350200" cy="6496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4200" y="496800"/>
                    <a:ext cx="8350200" cy="649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4T13:28:50Z</dcterms:created>
  <dc:creator>jalvarez</dc:creator>
  <dc:description/>
  <dc:language>en-US</dc:language>
  <cp:lastModifiedBy>jalvarez</cp:lastModifiedBy>
  <cp:lastPrinted>2006-04-13T19:29:55Z</cp:lastPrinted>
  <dcterms:modified xsi:type="dcterms:W3CDTF">2009-04-28T13:28:01Z</dcterms:modified>
  <cp:revision>40</cp:revision>
  <dc:subject/>
  <dc:title>Sin título de diapositiva</dc:title>
</cp:coreProperties>
</file>