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6EF-06EE-47DC-BB81-80DD65F8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039-499E-4AD0-8696-F3D91A52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275-102E-4E7C-9FD3-6669A2E8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65C-DF7F-43AD-82D5-1744ECAE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8E0-3A8C-43E9-AFDF-D85291A2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CD8-27F1-44D4-902A-5C365C4A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6A0-DC5A-4043-B5D9-427B0ED2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EE0-CFB4-4D27-A2A1-31759C7B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638-D774-4B72-AEDC-0F1C1A32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2A6F-9FF1-488E-AB9D-2E70382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7E58-96D9-411B-8F09-A5AB9F8D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4FD-A809-4C7E-A146-C99FF2B6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9F15-66CC-417F-A10E-C1042901C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R kb=new BR(new InputStreamReader(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tring linea=kb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28T13:28:01Z</dcterms:modified>
  <cp:revision>40</cp:revision>
  <dc:subject/>
  <dc:title>Sin título de diapositiva</dc:title>
</cp:coreProperties>
</file>