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A25-FDF5-45D8-A4E4-F8946A72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B18-50EF-4A02-9E7C-37600E39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FD6-F0EF-4D63-BC3E-855951DA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4C9-5014-46A9-A55C-835AA6C7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074-0D7A-4310-B84D-E42E9F4E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46F-0099-4911-8CFB-202620B0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01A-917A-4816-A06F-E2316B41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E82-14FD-4787-9C96-37EA5C36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DC2-5AD6-4C2E-81F0-7959C0A1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998-C326-4520-B3FF-ED661BEE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1F8-C523-4808-BC37-3E03A64C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3A1-B633-459E-B73F-11ECAEA7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670C-F761-4DD8-B2CD-619C2BA55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23800" y="565200"/>
          <a:ext cx="798840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5200"/>
                    <a:ext cx="798840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90600" y="417600"/>
          <a:ext cx="85248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5248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19040" y="482760"/>
          <a:ext cx="849636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2760"/>
                    <a:ext cx="849636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92200" y="309600"/>
          <a:ext cx="8431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09600"/>
                    <a:ext cx="8431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17600" y="390600"/>
          <a:ext cx="8497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90600"/>
                    <a:ext cx="8497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55680" y="380880"/>
          <a:ext cx="867420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0880"/>
                    <a:ext cx="867420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9800" y="349200"/>
          <a:ext cx="88488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9200"/>
                    <a:ext cx="88488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4244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perandos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double op1,op2; private char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actionPerformed(ActionEvent x)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//obtener bo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 b=(Button)x.getSour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primer caracter de texto del bot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har c=b.getLabel().charA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tender boton (y actualizar vi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//nuevo contenido de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c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Q': System.exi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C': s="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S': s="-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.': s=visor.getText()+".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default:  s=visor.getText()+c; break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89000"/>
            <a:ext cx="8496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+' : case '-': case '*': case '/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guardar primer operando y operac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1=Double.parseDouble(visor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=c; s=“”; break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=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realizar operación entre operand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2=Double.parseDouble(visor.getText(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witch(op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+': op1+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-': op1-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*': op1*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/': op1/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=""+op1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ctualizar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or.setText(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9200" y="484200"/>
          <a:ext cx="87552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84200"/>
                    <a:ext cx="87552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de tex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 nl=0; 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 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ta. ¿Sin usar clas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R kb=new BR(new InputStreamReader(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.print(“input?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tring linea=kb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84200" y="496800"/>
          <a:ext cx="8350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96800"/>
                    <a:ext cx="8350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9-04-28T13:28:01Z</dcterms:modified>
  <cp:revision>40</cp:revision>
  <dc:subject/>
  <dc:title>Sin título de diapositiva</dc:title>
</cp:coreProperties>
</file>