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53D-D06A-4282-B661-04C5158D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5F6-FB62-4D0D-B233-82F638A8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2CC-D817-4654-89B6-6DB19D1D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631-25C2-404A-8C39-D58B683C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C30-24DC-4DF7-96E4-0DDE1E0D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AD9-92E9-4830-9B0A-C13E3848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7E4-3CF7-4C47-8E76-8631C2C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7B8-8B28-4DDA-BB59-1178699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ABF-E848-49CC-B278-EFAB49BD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68E-C68C-4068-8E2D-940A207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C03-41AD-4218-B5A4-CB4C92B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8E5-D939-435B-8DF6-6448B6F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3E8-1D28-4AE3-AAE1-507B9B469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9-09-29T19:01:55Z</dcterms:modified>
  <cp:revision>22</cp:revision>
  <dc:subject/>
  <dc:title>Sin título de diapositiva</dc:title>
</cp:coreProperties>
</file>