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3CE-1EE3-41EC-B085-0B0F7424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3D3-D09A-4213-BBB9-BFCEBB4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82B-4F0E-4570-8BE3-755F74AC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0B8-A2DB-4E26-9867-775763FC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882-4C06-4DA0-923A-8F9DB7F4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2A9-28D7-47CA-BE59-909BC03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5B9-F785-4858-B56B-EEBB2127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D7A-4D3F-4324-A5EE-E14BF26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DB6-3C18-43A0-A03A-4BA58C71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F2C-3FD9-47F3-972B-5CBEE8D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D01-0C89-402C-8803-8D06303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59B-DE76-456B-8ACE-CCE294B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7454-E83C-4840-9F4E-AF8BC625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98320" y="384120"/>
          <a:ext cx="823788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384120"/>
                    <a:ext cx="823788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9-09-28T14:26:25Z</dcterms:modified>
  <cp:revision>39</cp:revision>
  <dc:subject/>
  <dc:title>Sin título de diapositiva</dc:title>
</cp:coreProperties>
</file>