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9519-2F8D-4865-998E-80E8E75DE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83C0-D2C0-4673-B6E6-964A0976C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8ED1-F1F3-4168-A2BE-586A5EFF3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28F9-F78B-40D9-919D-017C42A60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24B3-5061-4982-A8B8-65E50569E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3E18-7556-4AF9-871B-B74207D79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0363-234D-4A73-A1A4-865CC27E2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C538-8436-44B1-8318-A9535A6CF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C4B7-9490-4302-B5A2-D6C94FB22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B945-AE58-4DFC-9092-0E7FC4BD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6BAB-8490-41C2-BA06-F32EBDD8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928C-4B4C-48B7-A611-C88573F6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451F4-57A7-4A5B-B379-597F81792E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54200" y="606600"/>
          <a:ext cx="8089920" cy="582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06600"/>
                    <a:ext cx="8089920" cy="58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03360" y="620640"/>
          <a:ext cx="8202600" cy="579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360" y="620640"/>
                    <a:ext cx="8202600" cy="579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603360" y="620640"/>
          <a:ext cx="8105760" cy="575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360" y="620640"/>
                    <a:ext cx="8105760" cy="57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03360" y="620640"/>
          <a:ext cx="8034120" cy="570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360" y="620640"/>
                    <a:ext cx="8034120" cy="570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612720" y="506520"/>
          <a:ext cx="8193240" cy="631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2720" y="506520"/>
                    <a:ext cx="8193240" cy="63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762120" y="546120"/>
          <a:ext cx="7924680" cy="589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46120"/>
                    <a:ext cx="7924680" cy="58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65120" y="612720"/>
          <a:ext cx="8383680" cy="591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612720"/>
                    <a:ext cx="8383680" cy="591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06600" y="642960"/>
          <a:ext cx="8188200" cy="556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642960"/>
                    <a:ext cx="8188200" cy="55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479520" y="595440"/>
          <a:ext cx="8469360" cy="585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520" y="595440"/>
                    <a:ext cx="8469360" cy="58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88880" y="390600"/>
          <a:ext cx="8220240" cy="649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880" y="390600"/>
                    <a:ext cx="8220240" cy="64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19120" y="469800"/>
          <a:ext cx="8474040" cy="6123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469800"/>
                    <a:ext cx="8474040" cy="612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853920" y="531720"/>
          <a:ext cx="7718760" cy="586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531720"/>
                    <a:ext cx="7718760" cy="586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596880" y="596880"/>
          <a:ext cx="8242200" cy="591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6880" y="596880"/>
                    <a:ext cx="82422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92280" y="568440"/>
          <a:ext cx="8226360" cy="601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568440"/>
                    <a:ext cx="8226360" cy="60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06600" y="619200"/>
          <a:ext cx="832464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619200"/>
                    <a:ext cx="832464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93640" y="557280"/>
          <a:ext cx="8288280" cy="637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557280"/>
                    <a:ext cx="8288280" cy="63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20840" y="803160"/>
          <a:ext cx="8288280" cy="520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803160"/>
                    <a:ext cx="8288280" cy="520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42960" y="593640"/>
          <a:ext cx="7916760" cy="557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593640"/>
                    <a:ext cx="791676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13:33:49Z</dcterms:created>
  <dc:creator>jalvarez</dc:creator>
  <dc:description/>
  <dc:language>en-US</dc:language>
  <cp:lastModifiedBy>jalvarez</cp:lastModifiedBy>
  <cp:lastPrinted>2006-05-09T15:34:00Z</cp:lastPrinted>
  <dcterms:modified xsi:type="dcterms:W3CDTF">2009-09-23T16:36:01Z</dcterms:modified>
  <cp:revision>20</cp:revision>
  <dc:subject/>
  <dc:title>Sin título de diapositiva</dc:title>
</cp:coreProperties>
</file>