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02E-2070-4ACA-BE1B-082DB972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66E-B397-4DB6-8FD5-FAD0F5C2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EF5-CC65-47E0-8F17-9997F356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942-5F79-45D1-8BE1-456D332F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6E4-7462-4AE5-B768-D36DA843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193-E2F5-4B16-899B-993756E2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16C-0DCF-41A5-A0AE-FE1109F7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A11-8D2C-4AE7-BF23-67D26648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362-9DFD-4D87-9796-C24059AE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643-C433-4423-80E7-8FD2A974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3D5-0732-41D2-867B-B424226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582-11F6-4346-9AFA-F37BF01B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6832-6A39-4981-8B5D-6EB23315D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3360" y="620640"/>
          <a:ext cx="8202600" cy="57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20260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03360" y="620640"/>
          <a:ext cx="81057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057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3360" y="620640"/>
          <a:ext cx="803412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3412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12720" y="506520"/>
          <a:ext cx="819324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506520"/>
                    <a:ext cx="819324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5120" y="612720"/>
          <a:ext cx="8383680" cy="59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612720"/>
                    <a:ext cx="83836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79520" y="595440"/>
          <a:ext cx="846936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595440"/>
                    <a:ext cx="846936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8880" y="390600"/>
          <a:ext cx="822024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90600"/>
                    <a:ext cx="822024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09-09-23T16:36:01Z</dcterms:modified>
  <cp:revision>20</cp:revision>
  <dc:subject/>
  <dc:title>Sin título de diapositiva</dc:title>
</cp:coreProperties>
</file>