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A547-8A98-4045-8128-E16040AB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BFD2-C466-423A-9CBA-B65564D1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45B6-2CDC-41B9-AF7D-4C1B729C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1AC4-5E39-4AA1-8191-CD21BC39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607C-91DE-48CD-BD7A-934A3F38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A3E0-5C75-4BE5-9E26-586FFD98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C3BC-AB33-4133-9E09-03392E5D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1F32-5CE5-430C-A3CC-C88BBCB0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4B23-4C3A-40BE-9B42-5A1BFCAA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3925-0770-44D8-A1DE-6865817B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4C5F-4E92-4BC8-A31D-E1DECA96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0382-6F99-4539-A34F-3377D257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BF75-3206-489D-AEBF-6A3D85DE3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00240" y="692280"/>
          <a:ext cx="701352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692280"/>
                    <a:ext cx="701352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95360" y="655560"/>
          <a:ext cx="847260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55560"/>
                    <a:ext cx="84726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878040" y="544680"/>
          <a:ext cx="745956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544680"/>
                    <a:ext cx="745956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versión de coorden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5800" y="1981080"/>
          <a:ext cx="7772400" cy="3429000"/>
        </p:xfrm>
        <a:graphic>
          <a:graphicData uri="http://schemas.openxmlformats.org/drawingml/2006/table">
            <a:tbl>
              <a:tblPr/>
              <a:tblGrid>
                <a:gridCol w="1149480"/>
                <a:gridCol w="2736720"/>
                <a:gridCol w="1295280"/>
                <a:gridCol w="2590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izon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(x+100)/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=x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 - H y/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19200" y="469800"/>
          <a:ext cx="83246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469800"/>
                    <a:ext cx="83246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92040" y="417600"/>
          <a:ext cx="8699400" cy="743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417600"/>
                    <a:ext cx="8699400" cy="74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34960" y="469800"/>
          <a:ext cx="8399520" cy="667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469800"/>
                    <a:ext cx="839952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5600" y="363600"/>
          <a:ext cx="87138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363600"/>
                    <a:ext cx="87138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68280" y="393840"/>
          <a:ext cx="8470800" cy="645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393840"/>
                    <a:ext cx="8470800" cy="64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668160" y="495360"/>
          <a:ext cx="781704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95360"/>
                    <a:ext cx="781704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17600" y="444600"/>
          <a:ext cx="8609040" cy="671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444600"/>
                    <a:ext cx="8609040" cy="67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43040" y="457200"/>
          <a:ext cx="7607160" cy="66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457200"/>
                    <a:ext cx="7607160" cy="66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0920" y="568440"/>
            <a:ext cx="87138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constructor: inicializar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rtug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int y,Graphics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=x; v=y; //coordenadas ini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fa=0.0; //dirección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=z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//objeto 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ctualizar angulo: sumar x (en radia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ir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fa += x*Math.PI/180;//en radi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34960" y="247680"/>
          <a:ext cx="7981920" cy="662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247680"/>
                    <a:ext cx="7981920" cy="66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528480" y="517680"/>
          <a:ext cx="7905960" cy="601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517680"/>
                    <a:ext cx="7905960" cy="60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874800" y="549360"/>
          <a:ext cx="7354800" cy="555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549360"/>
                    <a:ext cx="7354800" cy="55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12840" y="12600"/>
          <a:ext cx="8216640" cy="663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12600"/>
                    <a:ext cx="8216640" cy="663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63800" y="531720"/>
          <a:ext cx="721188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531720"/>
                    <a:ext cx="72118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65160" y="730080"/>
          <a:ext cx="7211880" cy="53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30080"/>
                    <a:ext cx="721188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965160" y="841320"/>
          <a:ext cx="721188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841320"/>
                    <a:ext cx="721188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819520" y="1600200"/>
            <a:ext cx="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965160" y="730080"/>
          <a:ext cx="721188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30080"/>
                    <a:ext cx="721188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101600" y="717480"/>
          <a:ext cx="719928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717480"/>
                    <a:ext cx="719928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98400" y="528480"/>
          <a:ext cx="822960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28480"/>
                    <a:ext cx="822960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779400" y="550800"/>
          <a:ext cx="7853400" cy="59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550800"/>
                    <a:ext cx="785340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8:17:19Z</dcterms:created>
  <dc:creator>jalvarez</dc:creator>
  <dc:description/>
  <dc:language>en-US</dc:language>
  <cp:lastModifiedBy>jalvarez</cp:lastModifiedBy>
  <cp:lastPrinted>2006-04-21T23:26:38Z</cp:lastPrinted>
  <dcterms:modified xsi:type="dcterms:W3CDTF">2009-04-24T16:07:10Z</dcterms:modified>
  <cp:revision>33</cp:revision>
  <dc:subject/>
  <dc:title>Sin título de diapositiva</dc:title>
</cp:coreProperties>
</file>