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3C94-5EBE-4972-9548-825D652E9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AD0A-A5D0-49CB-AB3B-80222977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8ED4-BCA5-4FC9-B8EB-58772D45A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BED0-24D2-4A12-93C6-6AD0A990E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067E-C202-4946-A763-69B6B4A2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4256-E69F-44C2-AEA2-3D581880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805D-D539-47B7-AF3B-812C353F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B442-1BE6-4DE3-9E6F-CE012DF4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4BE1-EEAB-48CF-8DBF-2B05FF94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0A4A-DD24-4979-8ED8-B20E3E0E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C6BA-C33E-49CF-9A49-96D6F534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68FF-211E-4716-8AD2-5239944E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7056-FC02-46C7-99C6-9365C6D5B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92280" y="355680"/>
          <a:ext cx="8007120" cy="655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355680"/>
                    <a:ext cx="8007120" cy="65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44680" y="557280"/>
          <a:ext cx="844848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57280"/>
                    <a:ext cx="844848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68160" y="469800"/>
          <a:ext cx="8226720" cy="702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69800"/>
                    <a:ext cx="8226720" cy="702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07880" y="446040"/>
          <a:ext cx="854892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446040"/>
                    <a:ext cx="854892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46040"/>
          <a:ext cx="8474040" cy="612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6040"/>
                    <a:ext cx="8474040" cy="61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039680" y="655560"/>
          <a:ext cx="712476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655560"/>
                    <a:ext cx="712476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42960" y="681120"/>
          <a:ext cx="8139240" cy="578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81120"/>
                    <a:ext cx="8139240" cy="57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55560" y="581040"/>
          <a:ext cx="8374320" cy="517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81040"/>
                    <a:ext cx="8374320" cy="51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79400" y="668160"/>
          <a:ext cx="762012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668160"/>
                    <a:ext cx="762012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65040" y="417600"/>
          <a:ext cx="8426520" cy="60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040" y="417600"/>
                    <a:ext cx="8426520" cy="60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03240" y="581040"/>
          <a:ext cx="789156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581040"/>
                    <a:ext cx="78915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89000" y="779400"/>
          <a:ext cx="721188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779400"/>
                    <a:ext cx="721188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2280" y="655560"/>
          <a:ext cx="8288280" cy="703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655560"/>
                    <a:ext cx="8288280" cy="703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4200" y="593640"/>
          <a:ext cx="807876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93640"/>
                    <a:ext cx="807876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42960" y="692280"/>
          <a:ext cx="8053200" cy="520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92280"/>
                    <a:ext cx="8053200" cy="52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30080" y="630360"/>
          <a:ext cx="81648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630360"/>
                    <a:ext cx="81648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31720" y="506520"/>
          <a:ext cx="8350200" cy="627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06520"/>
                    <a:ext cx="8350200" cy="62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82760" y="655560"/>
          <a:ext cx="8386560" cy="574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655560"/>
                    <a:ext cx="8386560" cy="57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5:15:25Z</dcterms:created>
  <dc:creator>jalvarez</dc:creator>
  <dc:description/>
  <dc:language>en-US</dc:language>
  <cp:lastModifiedBy>jalvarez</cp:lastModifiedBy>
  <cp:lastPrinted>2006-04-18T16:26:29Z</cp:lastPrinted>
  <dcterms:modified xsi:type="dcterms:W3CDTF">2009-09-01T15:21:10Z</dcterms:modified>
  <cp:revision>26</cp:revision>
  <dc:subject/>
  <dc:title>Sin título de diapositiva</dc:title>
</cp:coreProperties>
</file>