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D9C-3C0C-4752-9FAF-5661A2A4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B462-0077-4FB2-9AC5-C5185BD2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351-BFBC-4087-8D93-FD8C1B2A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5E7-DA4C-43B6-BC45-8660956D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191-830D-4593-874C-A82D6E6F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76E-BA09-4F9E-92C4-98A41128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D47-7666-4B04-BE5E-3231ECFE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2CD-4C98-46F6-A2A4-D932E69C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22C-FC0D-480F-B52E-AF6F81A3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7E31-3AA3-488A-88DA-C0CFC009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663-7696-45E4-9236-D4F66457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56DB-490D-4B34-AB82-1873E704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855E-D303-4831-97CC-6D0EED550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92280" y="355680"/>
          <a:ext cx="8007120" cy="65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355680"/>
                    <a:ext cx="8007120" cy="65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4680" y="557280"/>
          <a:ext cx="84484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57280"/>
                    <a:ext cx="84484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68160" y="469800"/>
          <a:ext cx="8226720" cy="702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69800"/>
                    <a:ext cx="8226720" cy="702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7880" y="446040"/>
          <a:ext cx="854892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446040"/>
                    <a:ext cx="854892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46040"/>
          <a:ext cx="847404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47404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39680" y="655560"/>
          <a:ext cx="71247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55560"/>
                    <a:ext cx="71247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42960" y="681120"/>
          <a:ext cx="813924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81120"/>
                    <a:ext cx="813924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581040"/>
          <a:ext cx="837432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81040"/>
                    <a:ext cx="837432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79400" y="668160"/>
          <a:ext cx="76201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68160"/>
                    <a:ext cx="76201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65040" y="417600"/>
          <a:ext cx="842652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417600"/>
                    <a:ext cx="842652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55560"/>
          <a:ext cx="828828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55560"/>
                    <a:ext cx="828828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593640"/>
          <a:ext cx="80787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93640"/>
                    <a:ext cx="80787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080" y="630360"/>
          <a:ext cx="81648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648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1720" y="506520"/>
          <a:ext cx="835020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35020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82760" y="655560"/>
          <a:ext cx="8386560" cy="57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55560"/>
                    <a:ext cx="838656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09-09-01T15:21:10Z</dcterms:modified>
  <cp:revision>26</cp:revision>
  <dc:subject/>
  <dc:title>Sin título de diapositiva</dc:title>
</cp:coreProperties>
</file>