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D0C-0360-4318-8F9A-D49D44F1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DEC-F38B-4B84-944E-75CAC670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6BD-041B-4579-922E-640B8CC6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F2B-0E70-4ECB-80B0-6BDE51B2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A4C-6445-4E2B-9BF5-62C21919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9A7-A597-48CA-AF49-3032F14C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F90-293E-4B1E-A423-5175D46C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DED-8473-44E0-988D-A7EBC9DB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DBF-B916-4DA9-A7C5-42022528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FFD-BA4C-4CEA-A23B-55E036B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F88-5452-431D-B3BC-247832E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B59-D293-48E7-9E2F-B564ABB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80FB-5E45-4037-948F-29D2403D5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2280" y="355680"/>
          <a:ext cx="800712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355680"/>
                    <a:ext cx="800712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46040"/>
          <a:ext cx="854892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48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5040" y="417600"/>
          <a:ext cx="842652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7600"/>
                    <a:ext cx="842652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9-09-01T15:21:10Z</dcterms:modified>
  <cp:revision>26</cp:revision>
  <dc:subject/>
  <dc:title>Sin título de diapositiva</dc:title>
</cp:coreProperties>
</file>