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56A9-4D84-44E3-BF13-1526528BF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A6CC-DE63-48C6-B1F0-1C189264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B213-D3CA-4476-A1A3-C4083450A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609E-9A56-4F8F-85C2-6BAB4D0C5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E70D-DE63-40C5-A986-3E375E21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3B70-3395-45E3-ACE0-E9D4878D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9543-0EEF-4001-AE09-921E89ED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FFCC-4788-43D7-8434-C415B78D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13F1-D6CA-4DC5-AB4F-32C7FC39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258C-7766-41DB-987F-4355148C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3919-7C6D-4733-ABC4-2602C4C4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D20D-F66A-4E6D-815D-24DEAF14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D3FC-6532-4A11-A8B9-8B0E41B87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92280" y="355680"/>
          <a:ext cx="8007120" cy="655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355680"/>
                    <a:ext cx="8007120" cy="65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44680" y="557280"/>
          <a:ext cx="844848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557280"/>
                    <a:ext cx="844848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68160" y="469800"/>
          <a:ext cx="8226720" cy="702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69800"/>
                    <a:ext cx="8226720" cy="702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07880" y="446040"/>
          <a:ext cx="854892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446040"/>
                    <a:ext cx="854892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69800" y="446040"/>
          <a:ext cx="8474040" cy="612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46040"/>
                    <a:ext cx="8474040" cy="61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039680" y="655560"/>
          <a:ext cx="712476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655560"/>
                    <a:ext cx="712476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42960" y="681120"/>
          <a:ext cx="8139240" cy="578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81120"/>
                    <a:ext cx="8139240" cy="57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55560" y="581040"/>
          <a:ext cx="8374320" cy="517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581040"/>
                    <a:ext cx="8374320" cy="51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79400" y="668160"/>
          <a:ext cx="7620120" cy="57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668160"/>
                    <a:ext cx="7620120" cy="57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65040" y="417600"/>
          <a:ext cx="8426520" cy="602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040" y="417600"/>
                    <a:ext cx="8426520" cy="60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03240" y="581040"/>
          <a:ext cx="7891560" cy="596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581040"/>
                    <a:ext cx="78915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89000" y="779400"/>
          <a:ext cx="721188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779400"/>
                    <a:ext cx="721188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92280" y="655560"/>
          <a:ext cx="8288280" cy="703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655560"/>
                    <a:ext cx="8288280" cy="703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54200" y="593640"/>
          <a:ext cx="807876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593640"/>
                    <a:ext cx="807876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42960" y="692280"/>
          <a:ext cx="8053200" cy="520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92280"/>
                    <a:ext cx="8053200" cy="52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30080" y="630360"/>
          <a:ext cx="81648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630360"/>
                    <a:ext cx="81648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31720" y="506520"/>
          <a:ext cx="8350200" cy="627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06520"/>
                    <a:ext cx="8350200" cy="62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82760" y="655560"/>
          <a:ext cx="8386560" cy="574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655560"/>
                    <a:ext cx="8386560" cy="57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15:15:25Z</dcterms:created>
  <dc:creator>jalvarez</dc:creator>
  <dc:description/>
  <dc:language>en-US</dc:language>
  <cp:lastModifiedBy>jalvarez</cp:lastModifiedBy>
  <cp:lastPrinted>2006-04-18T16:26:29Z</cp:lastPrinted>
  <dcterms:modified xsi:type="dcterms:W3CDTF">2009-09-01T15:21:10Z</dcterms:modified>
  <cp:revision>26</cp:revision>
  <dc:subject/>
  <dc:title>Sin título de diapositiva</dc:title>
</cp:coreProperties>
</file>