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F85-D606-4B24-A343-381217B9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B47-509B-48B0-AEBE-8829EEC8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98B-6489-46F9-95E7-CD27C0FD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E7F-8423-487A-A167-2F7964BC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165-6F2F-4E31-A827-9CB5C97F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A18-48DE-4941-97E8-9A46FE64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385-0FA3-4F7A-8083-57C0C3D0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ABC-1644-4961-A178-913AEA2F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EBC-05DB-40A2-9BF3-2C3A73E1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AE1F-FB59-47AB-BF8B-E6269D2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974-820C-4F2F-8C99-F34B83E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504-459C-4A9E-85A0-93F0269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A9C9-A206-464A-8B8F-4A99BABC7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4640" y="469800"/>
          <a:ext cx="858204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69800"/>
                    <a:ext cx="858204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17T10:57:22Z</dcterms:modified>
  <cp:revision>33</cp:revision>
  <dc:subject/>
  <dc:title>Sin título de diapositiva</dc:title>
</cp:coreProperties>
</file>