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B206-285A-4EFC-93F8-A4A8D7E3B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A86B-1084-4C0E-925E-56A14860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88A5-312D-4E0E-8EA2-32682B4A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E54E-C5B4-4CEC-8D05-577CCE0B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99AB-5951-4C56-A25B-EF24294E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E768-88BC-4C52-9252-7EFC73B7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6B53-D457-4FFD-B783-3A1495C3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AE37-49F6-4130-860C-CCC7CA29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86E8-35D1-44A8-B0E6-14AC9555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38F4-D71B-435B-8221-55484B3A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323F-F578-494D-B00C-20B00400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6CB9-34D7-46EB-99D1-30AB208E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3771-5903-4EEF-843B-3DBC0A96F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98400" y="538200"/>
          <a:ext cx="7720200" cy="568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538200"/>
                    <a:ext cx="772020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96800" y="496800"/>
          <a:ext cx="8307360" cy="670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96800"/>
                    <a:ext cx="8307360" cy="67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04800" y="444600"/>
          <a:ext cx="8229600" cy="644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444600"/>
                    <a:ext cx="8229600" cy="64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-21960"/>
            <a:ext cx="87138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Rectangulo extends Figura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ctangul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,double y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per(x); this.y=y; if(y&lt;=0) U.abortar(“&lt;=0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x*y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2*(x+y)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Triangulo extends Figura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,z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angul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,double y,double z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per(x); this.y=y; this.z=z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y&lt;=0 || z&lt;=0 || x+y&lt;=z || x+z&lt;=y || y+z&lt;=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abortar(“no forman triangulo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x+y+z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=(x+y+z)/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Math.sqrt(s*(s-x)*(s-y)*(s-z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04640" y="469800"/>
          <a:ext cx="8582040" cy="649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469800"/>
                    <a:ext cx="8582040" cy="64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57200" y="457200"/>
          <a:ext cx="8593200" cy="62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85932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84200" y="403200"/>
          <a:ext cx="8163000" cy="636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03200"/>
                    <a:ext cx="816300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793800" y="619200"/>
          <a:ext cx="7893000" cy="607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619200"/>
                    <a:ext cx="7893000" cy="60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511200" y="698400"/>
          <a:ext cx="8377200" cy="566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698400"/>
                    <a:ext cx="8377200" cy="56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84200" y="403200"/>
          <a:ext cx="8163000" cy="636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03200"/>
                    <a:ext cx="816300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476280"/>
          <a:ext cx="8404200" cy="661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8404200" cy="66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82760" y="482760"/>
          <a:ext cx="8439120" cy="684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82760"/>
                    <a:ext cx="8439120" cy="68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03200" y="469800"/>
          <a:ext cx="8593200" cy="698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593200" cy="698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260280"/>
            <a:ext cx="80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lass Circulo extends Circunfer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68360" y="1125360"/>
          <a:ext cx="7848720" cy="6031080"/>
        </p:xfrm>
        <a:graphic>
          <a:graphicData uri="http://schemas.openxmlformats.org/drawingml/2006/table">
            <a:tbl>
              <a:tblPr/>
              <a:tblGrid>
                <a:gridCol w="1141200"/>
                <a:gridCol w="874800"/>
                <a:gridCol w="2370240"/>
                <a:gridCol w="438120"/>
                <a:gridCol w="1150920"/>
                <a:gridCol w="873000"/>
                <a:gridCol w="100044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nfer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imet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nfer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 flipH="1">
            <a:off x="250920" y="270828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5013360"/>
            <a:ext cx="252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564000" y="3500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50920" y="573408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932000" y="2565360"/>
            <a:ext cx="647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59280" y="3213000"/>
            <a:ext cx="36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2565360"/>
            <a:ext cx="0" cy="35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80000" y="3573360"/>
            <a:ext cx="0" cy="2087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932000" y="5661000"/>
            <a:ext cx="647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96800" y="444600"/>
          <a:ext cx="8164440" cy="651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44600"/>
                    <a:ext cx="8164440" cy="65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0920" y="171720"/>
            <a:ext cx="8893080" cy="631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olución 1. Con clases 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irculo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ul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x; if(r&lt;=0) U.abortar(“radio&lt;=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Math.PI*r*r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2*Math.PI*r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uadrado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adrado(doub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x; if(a&lt;=0) U.abortar(“lado&lt;=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a*a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4*a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9280" y="171720"/>
            <a:ext cx="896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2. Con jerarquía de cl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.x=x; if(x&lt;=0) U.abortar(“&lt;=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irculo extend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ul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super(x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Math.PI*x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2*Math.PI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uadrado extend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adrad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super(x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x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4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000" y="333360"/>
            <a:ext cx="8820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3. Con clase abstracta que obliga a redefinir métodos en clases exten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 clas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.x=x; if(x&lt;=0) U.abortar(“debe ser &gt;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ermite crear objetos (no admite new Figura(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e tener al menos un método abstra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 encabezamien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iga a clases extendidas a redefinir métodos abstra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09-04-17T10:57:22Z</dcterms:modified>
  <cp:revision>33</cp:revision>
  <dc:subject/>
  <dc:title>Sin título de diapositiva</dc:title>
</cp:coreProperties>
</file>