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C99-9B93-4754-BC10-5015F94E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7BE-EFEF-4845-9C53-008C306B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CF69-E463-4FFA-BEF7-8EDC0336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C98B-650E-4DCD-AB9D-E6EA1C87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D1E-CFA7-40AC-8859-611D8F8B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E363-7309-46E0-958C-5947D3B5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20D-009E-41D1-A86F-ECEEEB5B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760A-82CC-4D40-BBCF-AECDAAEF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CB1A-C20E-4F25-922C-3924E0F2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D01-FB01-4753-B516-D0A03B31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6561-560B-4E03-A4C0-0BAD21CE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4FC-C641-45C0-B738-04E2F0AB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C9BD-4B3B-4905-886B-1604570BB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98400" y="538200"/>
          <a:ext cx="7720200" cy="568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38200"/>
                    <a:ext cx="77202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6800" y="496800"/>
          <a:ext cx="830736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96800"/>
                    <a:ext cx="830736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4800" y="444600"/>
          <a:ext cx="82296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44600"/>
                    <a:ext cx="82296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-21960"/>
            <a:ext cx="8713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Rect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t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if(y&lt;=0) U.abortar(“&lt;=0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y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(x+y)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Tri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,z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this.z=z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y&lt;=0 || z&lt;=0 || x+y&lt;=z || x+z&lt;=y || y+z&lt;=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abortar(“no forman triangulo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+y+z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=(x+y+z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Math.sqrt(s*(s-x)*(s-y)*(s-z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04640" y="469800"/>
          <a:ext cx="8582040" cy="649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469800"/>
                    <a:ext cx="858204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457200"/>
          <a:ext cx="85932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5932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4200" y="403200"/>
          <a:ext cx="8163000" cy="63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03200"/>
                    <a:ext cx="816300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793800" y="619200"/>
          <a:ext cx="7893000" cy="607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619200"/>
                    <a:ext cx="7893000" cy="60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11200" y="698400"/>
          <a:ext cx="8377200" cy="566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698400"/>
                    <a:ext cx="837720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84200" y="403200"/>
          <a:ext cx="8163000" cy="63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03200"/>
                    <a:ext cx="816300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476280"/>
          <a:ext cx="840420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40420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2760" y="482760"/>
          <a:ext cx="8439120" cy="684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39120" cy="68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03200" y="469800"/>
          <a:ext cx="8593200" cy="698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93200" cy="698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26028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lass Circulo extends Circunfer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1125360"/>
          <a:ext cx="7848720" cy="6031080"/>
        </p:xfrm>
        <a:graphic>
          <a:graphicData uri="http://schemas.openxmlformats.org/drawingml/2006/table">
            <a:tbl>
              <a:tblPr/>
              <a:tblGrid>
                <a:gridCol w="1141200"/>
                <a:gridCol w="874800"/>
                <a:gridCol w="2370240"/>
                <a:gridCol w="438120"/>
                <a:gridCol w="1150920"/>
                <a:gridCol w="873000"/>
                <a:gridCol w="100044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me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 flipH="1">
            <a:off x="250920" y="27082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5013360"/>
            <a:ext cx="252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564000" y="3500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50920" y="57340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932000" y="256536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3213000"/>
            <a:ext cx="36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565360"/>
            <a:ext cx="0" cy="35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3573360"/>
            <a:ext cx="0" cy="208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932000" y="566100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96800" y="444600"/>
          <a:ext cx="8164440" cy="65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44600"/>
                    <a:ext cx="8164440" cy="65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71720"/>
            <a:ext cx="8893080" cy="631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x; if(r&lt;=0) U.abortar(“radi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r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(dou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x; if(a&lt;=0) U.abortar(“lad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a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1717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jerarquía de cl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333360"/>
            <a:ext cx="882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. Con clase abstracta que obliga a redefinir métodos en clases exten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 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debe ser &gt;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ermite crear objetos (no admite new Figura(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tener al menos un método abstr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 encabezami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iga a clases extendidas a redefinir métodos abstra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9-04-17T10:57:22Z</dcterms:modified>
  <cp:revision>33</cp:revision>
  <dc:subject/>
  <dc:title>Sin título de diapositiva</dc:title>
</cp:coreProperties>
</file>