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8BF-F74D-4DD4-9A9B-411446A44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0DF-1DD7-46C0-9F1C-8C834D74B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E9683-68EF-4320-B722-CBF9431AD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747A-E0C0-476F-A5B8-9118AAD7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7EF1-25BB-4881-9854-D3A2F8D9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E889-18D2-4D9C-92EF-80B68C24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EFC4-7ABD-4573-9627-FD08998E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AEAD7-FA0C-4B5A-A39D-3021729FE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7F65E-388F-4D4A-BF97-1C93983D6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5513-D58A-4E4D-B6B9-9ECD1EE72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17F4-28DE-4FA7-93E1-78BAE2269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9499-9DFE-466F-9EAE-EEBB0957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C78BA-23A7-4F75-B9C9-9EC96A30A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98400" y="538200"/>
          <a:ext cx="7720200" cy="568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0" y="538200"/>
                    <a:ext cx="7720200" cy="568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496800" y="496800"/>
          <a:ext cx="8307360" cy="670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96800"/>
                    <a:ext cx="8307360" cy="670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604800" y="444600"/>
          <a:ext cx="8229600" cy="644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444600"/>
                    <a:ext cx="8229600" cy="644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-21960"/>
            <a:ext cx="871380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Rect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ct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if(y&lt;=0) U.abortar(“&lt;=0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y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(x+y)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Triangulo extends Figura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y,z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riangul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,double y,double z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uper(x); this.y=y; this.z=z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y&lt;=0 || z&lt;=0 || x+y&lt;=z || x+z&lt;=y || y+z&lt;=x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U.abortar(“no forman triangulo”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+y+z;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double s=(x+y+z)/2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eturn Math.sqrt(s*(s-x)*(s-y)*(s-z))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s-ES_tradnl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0" name=""/>
          <p:cNvGraphicFramePr/>
          <p:nvPr/>
        </p:nvGraphicFramePr>
        <p:xfrm>
          <a:off x="404640" y="469800"/>
          <a:ext cx="8582040" cy="649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4640" y="469800"/>
                    <a:ext cx="8582040" cy="649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57200" y="457200"/>
          <a:ext cx="8593200" cy="629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57200"/>
                    <a:ext cx="8593200" cy="629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4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793800" y="619200"/>
          <a:ext cx="7893000" cy="607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3800" y="619200"/>
                    <a:ext cx="7893000" cy="60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511200" y="698400"/>
          <a:ext cx="8377200" cy="5662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698400"/>
                    <a:ext cx="8377200" cy="566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484200" y="403200"/>
          <a:ext cx="8163000" cy="6361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4200" y="403200"/>
                    <a:ext cx="8163000" cy="636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539640" y="476280"/>
          <a:ext cx="8404200" cy="661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404200" cy="661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482760" y="482760"/>
          <a:ext cx="8439120" cy="6845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482760"/>
                    <a:ext cx="8439120" cy="684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03200" y="469800"/>
          <a:ext cx="8593200" cy="6980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93200" cy="698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68360" y="260280"/>
            <a:ext cx="806436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Times New Roman"/>
              </a:rPr>
              <a:t>class Circulo extends Circunferenc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68360" y="1125360"/>
          <a:ext cx="7848720" cy="6031080"/>
        </p:xfrm>
        <a:graphic>
          <a:graphicData uri="http://schemas.openxmlformats.org/drawingml/2006/table">
            <a:tbl>
              <a:tblPr/>
              <a:tblGrid>
                <a:gridCol w="1141200"/>
                <a:gridCol w="874800"/>
                <a:gridCol w="2370240"/>
                <a:gridCol w="438120"/>
                <a:gridCol w="1150920"/>
                <a:gridCol w="873000"/>
                <a:gridCol w="1000440"/>
              </a:tblGrid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rimetr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nferenci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di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1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ircu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 flipH="1">
            <a:off x="250920" y="2708280"/>
            <a:ext cx="24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5013360"/>
            <a:ext cx="25207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3564000" y="350028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250920" y="5734080"/>
            <a:ext cx="25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932000" y="256536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859280" y="3213000"/>
            <a:ext cx="36036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565360"/>
            <a:ext cx="0" cy="3589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580000" y="3573360"/>
            <a:ext cx="0" cy="2087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4932000" y="5661000"/>
            <a:ext cx="64764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96800" y="444600"/>
          <a:ext cx="8164440" cy="6518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800" y="444600"/>
                    <a:ext cx="8164440" cy="651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0920" y="171720"/>
            <a:ext cx="8893080" cy="6311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olución 1. Con clases inde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r=x; if(r&lt;=0) U.abortar(“radi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r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r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(double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=x; if(a&lt;=0) U.abortar(“lado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a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a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179280" y="171720"/>
            <a:ext cx="89647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2. Con jerarquía de cla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&lt;=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ircul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ircul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Math.PI*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2*Math.PI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Courier New"/>
                <a:ea typeface="Times New Roman"/>
              </a:rPr>
              <a:t>class Cuadrado extend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uadrad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super(x)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x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{return 4*x;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24000" y="333360"/>
            <a:ext cx="88200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ción 3. Con clase abstracta que obliga a redefinir métodos en clases extendi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 class Figura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rotected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ublic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gur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double x)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is.x=x; if(x&lt;=0) U.abortar(“debe ser &gt;0”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re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bstrac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 dou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imetro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 permite crear objetos (no admite new Figura(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e tener al menos un método abstrac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tract encabezamient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liga a clases extendidas a redefinir métodos abstrac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6-04-13T19:29:55Z</cp:lastPrinted>
  <dcterms:modified xsi:type="dcterms:W3CDTF">2009-04-17T10:57:22Z</dcterms:modified>
  <cp:revision>33</cp:revision>
  <dc:subject/>
  <dc:title>Sin título de diapositiva</dc:title>
</cp:coreProperties>
</file>