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2C5-07C3-428B-8117-8C8B8EA3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D82-DCBF-41B6-8E50-391CC25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46C-6CD4-488D-AC3C-D416AF49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397-AD6E-4CED-B8FA-4B14376D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043-2F65-4D4F-A813-784AAFA7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187-2DF4-4574-AD68-78B584DB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5F5-49AE-4D35-8A7C-47AB615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F1D-6102-44B9-A33D-92AC87EF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4A2-D97E-495C-AC84-12027CED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A7F-A721-42B9-A23B-CAD66818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154-34D3-47A3-A5BC-E00FCEC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A4F-113C-497E-9CFD-56A5254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C1C7-42CD-422B-86A9-95017B7BA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4640" y="469800"/>
          <a:ext cx="858204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69800"/>
                    <a:ext cx="858204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17T10:57:22Z</dcterms:modified>
  <cp:revision>33</cp:revision>
  <dc:subject/>
  <dc:title>Sin título de diapositiva</dc:title>
</cp:coreProperties>
</file>