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331-79A3-4941-8E80-9E767A68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9AE-1BA2-4E88-8D41-D6A29996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4C3-76DC-4898-96B1-2B0094B0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513-DD2D-40E4-9FB4-ABE951BA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D7C-A180-4E09-B4A6-34C761B0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BBC-A889-4831-98B2-EE223112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E1E-B00A-4C3C-82C9-CB16A0D8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EAC-CB86-4AF2-8951-9DF93E39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A3E-EA4A-452F-AFC3-A016A557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D41-C9E2-4FA8-B9A6-2F0B3521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696-7C42-4399-B1C0-C0B5A801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56F-23E0-4675-B9D6-AF7DEAD5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96CC-45D6-4B50-B3EA-825836BAC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27120" y="550800"/>
          <a:ext cx="797868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50800"/>
                    <a:ext cx="79786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8800" y="399960"/>
          <a:ext cx="8529840" cy="62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2984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8800" y="399960"/>
          <a:ext cx="8542440" cy="61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42440" cy="61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5920" y="673200"/>
          <a:ext cx="762012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673200"/>
                    <a:ext cx="7620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88800" y="388800"/>
          <a:ext cx="8467920" cy="609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88800"/>
                    <a:ext cx="8467920" cy="609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23800" y="484200"/>
          <a:ext cx="832500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484200"/>
                    <a:ext cx="8325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9-04-08T17:58:02Z</dcterms:modified>
  <cp:revision>65</cp:revision>
  <dc:subject/>
  <dc:title>Sin título de diapositiva</dc:title>
</cp:coreProperties>
</file>