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51E-053B-4D6F-BE65-23ACCB8A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6AC-7E43-43C7-B038-5A01F18C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A32-079F-4D87-9E1D-EF2FF668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7B9-14C8-4489-99BC-196E34C2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CE2-3EE5-42F0-AB86-9AE61246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34A-D700-47C5-AEEF-7331D873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975-718B-41ED-B5E3-ECAF958E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FBA-0002-42FB-91F4-26FE5CAD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F4A-6C93-4E1A-BA68-70AAB78E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15E-F673-4028-A225-9E48DB3F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292-376C-4EE9-BEAC-2D126B2E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EDB-565E-4BFE-B7D7-07A994A9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A43B-0C4C-49D6-B7E4-BD6905B0A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27120" y="550800"/>
          <a:ext cx="797868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50800"/>
                    <a:ext cx="79786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8800" y="399960"/>
          <a:ext cx="852984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298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8800" y="399960"/>
          <a:ext cx="8542440" cy="61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42440" cy="61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5920" y="673200"/>
          <a:ext cx="762012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67320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88800" y="388800"/>
          <a:ext cx="8467920" cy="609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88800"/>
                    <a:ext cx="8467920" cy="609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23800" y="484200"/>
          <a:ext cx="832500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484200"/>
                    <a:ext cx="8325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9-04-08T17:58:02Z</dcterms:modified>
  <cp:revision>65</cp:revision>
  <dc:subject/>
  <dc:title>Sin título de diapositiva</dc:title>
</cp:coreProperties>
</file>