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98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98800" y="0"/>
            <a:ext cx="2998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08080" y="686880"/>
            <a:ext cx="4681440" cy="351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900000" y="4427280"/>
            <a:ext cx="5097600" cy="41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0" y="8854560"/>
            <a:ext cx="2998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98800" y="8854560"/>
            <a:ext cx="2998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66EF-588C-4570-8480-2514EB8F8A9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0"/>
            <a:ext cx="2998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389880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DD9C-CF80-43D1-975D-E23D3D9C08D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08080" y="687240"/>
            <a:ext cx="4681440" cy="35118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00000" y="4427280"/>
            <a:ext cx="5097600" cy="41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0"/>
            <a:ext cx="2998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89880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3CF3-DE35-4970-B794-603444D625A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08080" y="687240"/>
            <a:ext cx="4681440" cy="35118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00000" y="4427280"/>
            <a:ext cx="5097600" cy="41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0" y="0"/>
            <a:ext cx="2998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arch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3898800" y="8854920"/>
            <a:ext cx="29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FC9A-F629-454F-B5F9-0AE525FC0AB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8080" y="687240"/>
            <a:ext cx="4681440" cy="35118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00000" y="4427280"/>
            <a:ext cx="5097600" cy="41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A80-FE87-4827-841D-F4C98B18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FA97-F6E1-4158-9196-F8436536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1B4-63C1-444C-B28F-17644E2C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529-AF73-4FE3-80EC-21A39E08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DAF0-9815-4EF6-A90B-F8A5304E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415D-89B7-4E72-A916-2FE05D9B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621A-659F-4640-BE17-960FAA83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A758-2ECB-4593-9FA5-5399E634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F7BA-831B-40AB-9F63-F1E24434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56B6-9B04-4588-A63E-45E426EE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7C02-A88D-4853-98F1-CA09969F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B2A-AA61-4B1C-80CD-63756456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EDC4-2A8B-496C-A0C7-9452811A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59F8-01B0-49FD-80D4-0DEA914F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470A-EA79-4B14-BB0D-A1A9341C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7EC2-7A66-47A3-B4FC-FE803F08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8A98-2002-4AB8-94CA-54147452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4300B-4B33-4678-9E5D-6AA75B9D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092A4-351A-4B36-A848-CF867F22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DD9A4-437B-4645-A620-5793DBC4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387D7-2F7B-44A9-B432-34C339FD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F871C-83CB-43A4-B68E-812DF545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C08-4462-4B50-B570-C5822E01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C40EE-5736-449F-A250-6B62595D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40E52-D3AA-4E05-8406-79991D3F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51AFE-383B-435B-9971-ABEC5091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9F784-A7F9-4254-AEB7-49222321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21B3D-7948-4AE2-B0D0-37A0B5EB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43A3C6-02A0-4A54-906F-98C78524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C6E84-8C46-4C9D-ABAC-C17ABFB8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E0C64-6C0E-457F-94AB-DAD533FD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12904-FF3A-4D74-A676-DD347FFF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4E85F-4A38-4070-A679-2B03986E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C469-70C9-4EA8-8E45-C65032FA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F5B03-0766-44CC-B9E5-4DD8E3C0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8F11C-ED54-43D9-8291-FB0C2761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4819C-1FE6-4A57-8005-DDC82F27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12F69-939F-4DC1-B91B-E39FDFD2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3D1B0-B45A-4746-ABE3-F50FA4C6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0416C-ED60-41B5-933B-73FDD1C7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621E0-A2E0-4167-8E9C-3AF51838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E403A-37A5-4FD2-AF23-3627E761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189DF-F9F3-4195-B687-951AC382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909F5E-E5BC-456B-B42F-C001DB49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1A9B-965A-437C-9898-57DAF8D9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7A098A-259F-435A-8E28-4B27672D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CAC0D-D1F1-4681-A549-4621B1F5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5A99C-67B1-4E8F-8B55-3429341E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F2B5A1-4C47-4E59-BB83-496B8B9B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8B2E6-5566-4259-8CE5-9B3489DF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501ECD-C8FB-4127-B4B5-9A4FB6F2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A26663-FC1F-423E-BF59-A1B6B247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D34674-94C0-453A-9D0C-CCA23B44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3F110D-FAAA-4622-A4B9-35359F42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D6976D-831E-4393-A387-42D2BAB7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12EF-4D31-470D-923C-231A270F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998DFC-7BC6-466D-A91D-17AAA7D0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E4E7F9-C65B-4F88-ACFA-A4180C51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85A100-1A4D-4DFA-9082-54D15198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FA71A9-CD69-472E-A483-1BA9FA7B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D3DE49-17DF-4CAD-93F9-188E9650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F8967F-5C16-41D5-8F92-957440C1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B642FE-F1C5-474C-BFF8-3ED62BA2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A70794-0C25-4CE2-82ED-02E7122A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B27E33-BE85-4DFE-A9C7-D2A69932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A5A8C0-174A-456B-A798-E8A4A80E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390-3D69-4BAF-9906-B982D74B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E181E7-6A41-4E1A-BCEE-020CE554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4FBE41-5177-44AE-806D-CA7F585B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34EDC5-EBE1-48B2-B141-6DE2F384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2F1422-21D9-45AB-B101-C39EF5E5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380A78-98D7-40A8-91F8-4A5568A8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F54F8F-4ED4-4A56-8A59-818F962A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439779-2962-46A0-8907-0765546C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76B23D-BC58-4D37-9864-B165DFF6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E873A6-4F18-4F05-8951-D605C91B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C827F0-0DFC-4559-B0AF-488F8158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C164-02F4-48E2-AC1C-D38197B2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255977-6EC8-4B19-8269-9CDF59CA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4F8523-CDDC-4E55-BE31-05206530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9A7FAB-281E-4DBC-826C-932C5D29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EEFEAA-2A6F-4468-8B56-8BD63F80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6FD0E1-B799-4B86-8F71-F72FE6AE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55F28-166C-4F26-93B8-018865B8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B4083-2635-4195-BEC5-1F4635BB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3365C-391F-4145-80F9-A195D73D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D5EDB-3B86-4FC3-972B-EE68D08B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4330D-6913-4AF1-B3AE-36A7C9FB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573-0880-414F-B77B-3DEA2AFC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DBC83-976A-4715-9184-A632A83B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7AE15-6723-4DEE-A220-2444FF14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DCC0B-255A-4D40-9EC0-111BC7BB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989F6-CEBB-4244-B0A8-18E54356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552A1-C4EF-4043-9550-7EF11F28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B0222-A289-480A-B488-1ACED057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AAF8B-08FF-4DBF-AFB8-A847AF22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7446-A846-4D6E-954C-D18F1E0A10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A876-AF3C-4FAD-9121-63DD93EF98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F683-4B06-4E86-8CB2-4F8DE74464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3A59-382C-46D3-99D6-DC244AC5DE7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EBB9-A94C-4E04-96BA-1E236A81AC3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850F-9971-4013-B96F-69CA8F0389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255A-8B42-4747-ACCE-7DA71D6529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967D-382E-452D-9FA5-03C39C0D748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RCHIVOS EN DISCO: MOTIV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"/>
          <p:cNvGraphicFramePr/>
          <p:nvPr/>
        </p:nvGraphicFramePr>
        <p:xfrm>
          <a:off x="793800" y="469800"/>
          <a:ext cx="773100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7310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752400" y="511200"/>
          <a:ext cx="78948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11200"/>
                    <a:ext cx="78948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752400" y="523800"/>
          <a:ext cx="77994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23800"/>
                    <a:ext cx="77994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941400" y="725400"/>
          <a:ext cx="775800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725400"/>
                    <a:ext cx="775800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4"/>
          <p:cNvSpPr/>
          <p:nvPr/>
        </p:nvSpPr>
        <p:spPr>
          <a:xfrm>
            <a:off x="533520" y="1447920"/>
            <a:ext cx="8229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941400" y="725400"/>
          <a:ext cx="775800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725400"/>
                    <a:ext cx="775800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538200" y="550800"/>
          <a:ext cx="82962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550800"/>
                    <a:ext cx="82962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"/>
          <p:cNvGraphicFramePr/>
          <p:nvPr/>
        </p:nvGraphicFramePr>
        <p:xfrm>
          <a:off x="538200" y="550800"/>
          <a:ext cx="82962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550800"/>
                    <a:ext cx="82962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Rectangle 2"/>
          <p:cNvSpPr/>
          <p:nvPr/>
        </p:nvSpPr>
        <p:spPr>
          <a:xfrm>
            <a:off x="380880" y="1066680"/>
            <a:ext cx="8229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550800" y="501480"/>
          <a:ext cx="8167680" cy="55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01480"/>
                    <a:ext cx="8167680" cy="55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577800" y="484200"/>
          <a:ext cx="8458200" cy="74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4200"/>
                    <a:ext cx="8458200" cy="74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482760" y="417600"/>
          <a:ext cx="8530920" cy="63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17600"/>
                    <a:ext cx="8530920" cy="63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511200" y="417600"/>
          <a:ext cx="8337600" cy="69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17600"/>
                    <a:ext cx="8337600" cy="69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Rectangle 2"/>
          <p:cNvSpPr/>
          <p:nvPr/>
        </p:nvSpPr>
        <p:spPr>
          <a:xfrm>
            <a:off x="304920" y="1371600"/>
            <a:ext cx="8229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431640" y="482760"/>
          <a:ext cx="85680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82760"/>
                    <a:ext cx="85680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496800" y="457200"/>
          <a:ext cx="8437680" cy="569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57200"/>
                    <a:ext cx="8437680" cy="56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368280" y="368280"/>
          <a:ext cx="8661600" cy="70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368280"/>
                    <a:ext cx="8661600" cy="70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511200" y="417600"/>
          <a:ext cx="8337600" cy="69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17600"/>
                    <a:ext cx="8337600" cy="69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968400" y="673200"/>
          <a:ext cx="71136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1136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968400" y="673200"/>
          <a:ext cx="7327800" cy="59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3278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685800" y="433440"/>
          <a:ext cx="8121600" cy="602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3440"/>
                    <a:ext cx="812160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995400" y="604800"/>
          <a:ext cx="7704000" cy="55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604800"/>
                    <a:ext cx="770400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793800" y="469800"/>
          <a:ext cx="78390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8390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4"/>
          <p:cNvSpPr/>
          <p:nvPr/>
        </p:nvSpPr>
        <p:spPr>
          <a:xfrm>
            <a:off x="380880" y="990720"/>
            <a:ext cx="8229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793800" y="469800"/>
          <a:ext cx="78390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8390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1:57:56Z</dcterms:created>
  <dc:creator>jalvarez</dc:creator>
  <dc:description/>
  <dc:language>en-US</dc:language>
  <cp:lastModifiedBy>Victor Ramiro</cp:lastModifiedBy>
  <cp:lastPrinted>2006-04-04T19:13:56Z</cp:lastPrinted>
  <dcterms:modified xsi:type="dcterms:W3CDTF">2010-04-23T03:26:28Z</dcterms:modified>
  <cp:revision>37</cp:revision>
  <dc:subject/>
  <dc:title>Sin título de diapositiva</dc:title>
</cp:coreProperties>
</file>