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98800" y="0"/>
            <a:ext cx="2998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08080" y="686880"/>
            <a:ext cx="468144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0" y="8854560"/>
            <a:ext cx="2998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98800" y="8854560"/>
            <a:ext cx="2998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3DE8-F0E1-487B-B40A-9A50C59895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9880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617B-0142-4506-85AD-26C99FD250D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8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9880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7C1E-9594-4DCE-B213-98036B7700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8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89880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FFA8-37CD-4B72-BEE3-F045EEF9F1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8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6E9-9B40-4DF2-B655-2C2F8E5F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2C4-59AE-457C-A8DC-E256C81C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CB3-FEDD-4E46-9B0C-3D3F3198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1C6-890A-4680-BCA6-292B7BA9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D905-38C7-4E8B-91A2-C6427143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D025-A917-4CFE-82BF-3210F508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A19B-CEFE-436A-9DBE-18A7A5FA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4454-E9F1-42BD-8635-1F8A6D16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C5A1-395A-4E37-B789-161C1F89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6DC9-8CA7-42C9-AAD4-9323DAE6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A64C-62C4-4D95-85AC-CA9FF4D5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C58-6495-4BFB-BC95-C7639AF4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232F-9336-400B-9BFC-DB5ED89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FEE8-3374-40DC-8B6C-3EB986FB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9F3F-B13B-4FDA-BA90-CACAFC72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7350-1FAC-45CC-BB0B-747752C1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FE79-97FB-455E-A32A-CC680DCE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80A9A-C496-4EB4-8E51-C22ADC62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7D896-D6E8-4609-8067-3E703DBB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A3DFF-E61A-4319-B388-51F01B78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235EC-6BE1-4F4A-AE34-3CB328C4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C4BB5-ADBF-44E3-B734-5449ADD8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DB3-DE45-4A46-BFA1-202D8AC7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3E82D-A573-448B-8EF7-7805C4DD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90838-58B3-4369-A662-52484D1C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78AD9-51CD-415C-8320-08C455A8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AE1AA-54D7-4671-A343-7E41A8CA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05F24-4E4A-4943-B8BC-C57AC2A7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0DEE6-DB02-47A5-860A-2B7C3161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4196F-92A5-4302-A7A2-4CD41431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5C572-DAA7-4447-AAB9-46EAB335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80136-C143-405B-A9C5-83AEA778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E77F4-CFAE-4AF9-A2F7-E77A0F47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27B-9926-4842-B218-E00DDB0C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F86FB-66E1-45D9-8EC3-146D1017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33486-5B23-4324-A014-8DCF5828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9147D-7E41-4DAF-BFE7-A007E7A1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0102D-772A-4AAA-957C-C98A6296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D5E6-E090-4EB1-9FF0-8D1D6737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F07C-1DAA-4621-806B-306EC157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703D0-5BD0-43DE-82D5-C3087BA3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103B-2B1E-45E8-87D5-102EB3C8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108B4-6161-4187-8669-2C3B4530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967E7-2243-46D4-BDD8-CB83668D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5E3-3FA4-4218-B9D2-756D073D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F753F-FF99-4B3C-BCAB-A4CEC2E1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77AF9-75BE-4EDF-80A8-69256F8E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EF13A-FBE3-46E1-9B2B-2224EA37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111F8-18C4-4332-BA5E-547A3D56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2FE54-6BAE-4614-8AE8-2434787B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BFE4C-20D6-467F-AFD0-12B76291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27922-A770-478C-8189-31362E9B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D5CAA-478E-446E-9F82-38934715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0B87E-DE5C-43D6-A966-D774E999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DB531-A7F9-4047-884E-925C8B71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D14-57EE-4B34-B4F0-01A2CDF4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1AA93-5B64-49D0-8DCB-42CE4D4D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24BE8-3416-4B74-A6F1-09E6FB87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F611B-1414-4340-9A31-0A083C4B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620740-99EF-471A-A965-8230C852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5F1D6-4242-4746-884E-E3B8584A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01249A-C66A-41D6-A937-8C07ACAA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9BE01-E5AD-40B4-9CE1-4C9D9131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5906D-3B86-46E6-B018-BB74CAD8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6D02F-3DA6-42D6-A02E-35C9DB18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CF615-21D3-44ED-92A6-41B30B6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CB2-9356-4CDA-8438-DB27D15C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4C410-94B6-4D91-8D50-0D6B58C9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79048-743C-41DF-BB2C-A474164A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96B0E-4D34-4B83-AF16-80E01853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D524E-6304-4CDC-8E9A-3451252E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CA50B0-D7C4-422B-A970-804A5344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6DE899-4977-4BD9-94BA-1CD7D8BB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EB616-E113-4DE2-95E1-8E15FA97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158E8-A405-485D-BA92-564DAEB2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9B537-21EA-4926-A8B2-03FE675C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9B93AE-8EF7-4DA8-911B-297D7771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6DA-DE9B-4CE8-8681-20ACA09B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94BB0-83E9-43CC-BC6D-3B928672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71D037-0323-445B-84D8-19887C05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95B68-AF45-40B6-BBE7-FE150B3E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B2F1E-21F9-4300-9157-E205335A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39513-0026-4791-B5BE-7A7380B6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D5C48-4490-4717-94C7-9F0A4FFC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266ED-C0B1-476F-A89F-53AF8EB5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BB8D1-A26D-4B01-BA9E-A6784DC4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A4220-98D7-437F-B5E6-8C9711C3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3BE00-9107-4D29-8B5F-9A7D48FD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1C5-62EC-456A-8DE5-6F11F7E6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067A2-36C1-40FC-9688-4D0D0BB3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BBE6C-A610-4278-95D1-B6C81007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15F06-5F8D-4975-A4B8-062ADB51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C7F06-A4CC-4321-8A38-E1A558CC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3875E-9762-479A-983C-DEDE944D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838C8-4DE4-4C10-A54F-02967AE0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9B48A-844D-4194-BAE5-E409ADF0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D5C7-3563-4F34-8D4D-E4537B8E2B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DFD9-1128-4330-937C-4484921DE9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989F-03E9-4400-B8E1-40BD98C3D2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5B67-741C-46CE-BCDA-9D64A86E1E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BBC8-A9B7-4B87-A237-629A8E26A1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D87D-59A6-41A1-91A2-DA1A038EE4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1166-8EAE-4B95-ABFE-8D97787E63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0943-6597-4537-9679-493CCD267C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RCHIVOS EN DISCO: MOTIV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752400" y="523800"/>
          <a:ext cx="77994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23800"/>
                    <a:ext cx="77994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4"/>
          <p:cNvSpPr/>
          <p:nvPr/>
        </p:nvSpPr>
        <p:spPr>
          <a:xfrm>
            <a:off x="533520" y="144792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"/>
          <p:cNvSpPr/>
          <p:nvPr/>
        </p:nvSpPr>
        <p:spPr>
          <a:xfrm>
            <a:off x="380880" y="106668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550800" y="501480"/>
          <a:ext cx="816768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01480"/>
                    <a:ext cx="816768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577800" y="484200"/>
          <a:ext cx="8458200" cy="74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458200" cy="74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482760" y="417600"/>
          <a:ext cx="8530920" cy="63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17600"/>
                    <a:ext cx="8530920" cy="63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Rectangle 2"/>
          <p:cNvSpPr/>
          <p:nvPr/>
        </p:nvSpPr>
        <p:spPr>
          <a:xfrm>
            <a:off x="304920" y="137160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431640" y="482760"/>
          <a:ext cx="85680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82760"/>
                    <a:ext cx="85680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496800" y="457200"/>
          <a:ext cx="8437680" cy="56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43768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368280" y="368280"/>
          <a:ext cx="8661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68280"/>
                    <a:ext cx="8661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4"/>
          <p:cNvSpPr/>
          <p:nvPr/>
        </p:nvSpPr>
        <p:spPr>
          <a:xfrm>
            <a:off x="380880" y="99072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1:57:56Z</dcterms:created>
  <dc:creator>jalvarez</dc:creator>
  <dc:description/>
  <dc:language>en-US</dc:language>
  <cp:lastModifiedBy>Victor Ramiro</cp:lastModifiedBy>
  <cp:lastPrinted>2006-04-04T19:13:56Z</cp:lastPrinted>
  <dcterms:modified xsi:type="dcterms:W3CDTF">2010-04-23T03:26:28Z</dcterms:modified>
  <cp:revision>37</cp:revision>
  <dc:subject/>
  <dc:title>Sin título de diapositiva</dc:title>
</cp:coreProperties>
</file>