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8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98800" y="0"/>
            <a:ext cx="2998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08080" y="686880"/>
            <a:ext cx="468144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900000" y="4427280"/>
            <a:ext cx="509760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0" y="8854560"/>
            <a:ext cx="2998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98800" y="8854560"/>
            <a:ext cx="2998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BBE5-3902-4789-A707-413AC79CE4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0"/>
            <a:ext cx="2998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389880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CE27-AF2D-4200-925B-E5F9E2E47F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0808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00000" y="4427280"/>
            <a:ext cx="509760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2998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9880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FB6B-850B-4953-B359-D5440BDCAFB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808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00000" y="4427280"/>
            <a:ext cx="509760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2998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389880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7D85-3224-49CF-951E-7E507C5D776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808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00000" y="4427280"/>
            <a:ext cx="509760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2E85-52B9-4206-9BD2-0C3ADB98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528-6C95-4D14-99DB-40FAA6CC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7C5-06E1-4672-A8D9-5F17BB1F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A57-DEC4-4B52-B855-C497099A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553A-1B40-4F93-A77A-18C78654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B4CC-3D4B-435B-8568-8B817F57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DCAA-984D-4EC9-A140-E62C16FC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F912-89E5-480A-A6BE-D831A780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1F3E-9B2A-4A12-B528-3D0ADDF5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C725-0447-4954-BF95-2C07F36D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6956-C4A6-4E7C-8B7E-FBACBEFB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3E7-5209-4A77-89F2-9217B0E8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58FB-8979-4410-8BE4-F356DA0E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136D-8E62-4B68-A9EB-35CE4FA1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ACEA-B9AE-446E-AA50-5F6A7C9B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2A6C-60B8-429E-BFA5-7D5129FE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69EA-69FE-4BCA-9B8F-535139AA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E4BAE-DC55-4C23-962E-979D4E6A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F0FFB-3BB9-4CFC-AA1E-F9B52615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E5890-216A-4D8A-B2D2-18D253B8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473B3-BDE9-49F1-A948-0280836D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8280A-5797-495F-827D-2C04A21A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E56-5A8A-4A5A-B876-B42FAB8D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E5894-1B0B-4867-A26A-0B7A3A68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22622-0B72-4B09-B0F5-08FDE7C5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BE3F7-281A-4E77-A6EF-59FCDDBA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D5B40-A8C3-4D7D-8E52-CAB4FB8D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84CB2-A5B7-495B-97FA-86E949AB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E6155-291C-4DD9-A730-97448DC6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5E0A9-88C5-4817-B537-33D8244A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6EA1C-5C15-426F-AD00-33220D84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77B7E-5598-4609-9246-13A50060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3D111-138D-4C3D-BF1E-23FB9EBB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37A-3EF7-4812-AC3E-79F05F5E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37E3C-6169-4B6C-AC82-711BE918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19EE3-AC10-4AB0-8E69-CD28B763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28A9C-B05D-450B-BCE3-EE1DFFAF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451E-EDE2-4822-A4AD-EB70FBBC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1DAF-3706-4545-A85D-AD0DF08E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90824-9FC7-43E7-AC89-F180F600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26F10-3E2B-49C9-A316-E56666E2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5409D-2528-4F66-BE7D-D3E93B0E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374D5-86B7-4F90-AEA8-8186FCB2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CDEC2-3E1E-4304-9418-7F1105DF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E22-F338-4497-A61C-92E36C5C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8EAB4-3F5D-4A6C-A22E-AB3C962E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B4F6C7-35E4-499B-8FCE-8A4B0EB3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38097-34E1-4838-A657-F5005695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A4A4E-C617-40CB-9C93-6A9B740D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0328F-3956-4E9B-B66B-008EF416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326C9-9720-4030-BC88-C9ED5F97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9FCE4-07C4-4B35-9B64-05199932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2ED71-F714-4EAA-B172-29C5947B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348D9-2718-4ABD-B347-A12E1C19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7C5D8-84A3-4522-8EF4-3CD3B8A0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FB0-FEAB-41CE-9208-24076296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539D3A-2E40-4D72-9A17-5DF921DD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99797-54D6-4DDD-972D-F9CED2C9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1E44F-4DD1-420B-90E7-DC05E05A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D8D475-951D-4E62-ABAE-3B67BD45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11A6E-CB93-4E0C-8A98-8D840E00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C77B8-BA33-4A7C-B121-F2FE03F1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B3EE97-415B-42C4-B187-B98889CC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F63FE1-B3D1-4711-9512-E75DE0BA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82D95-027E-44C8-8E77-8A450E51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D1EC2-8271-4E71-BCDC-8648E8D1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BAF-787A-4FA5-8DE3-B0C8AE89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3434B-CFEF-4B7C-8CF8-C4A12B51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2C3F0-59A9-4142-92CC-BFD31F3A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82A931-B639-4862-B055-7C82C4C2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8E29C3-948A-4752-8E4A-76B17D38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E2E968-94E8-4868-B7C6-BF2808C3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5188E-DD07-4F03-B6AE-CA0FF5A1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46444-8363-4CFB-A9C0-5B6E7805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6AB6B9-E994-4624-BF1A-0E2FE6EC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A9094-5954-4BD3-B489-95718D63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7D7510-40E3-4078-A023-5760990C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D3C-E6D2-43E6-B01D-2A20B63F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6B6C3-A18E-4A25-A885-01598D79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06D39-E478-4065-A4B1-22783BBE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0D5637-FE63-48E3-9BEF-02CA7AB8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3AB6C-70DA-4434-B919-2AF83776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BADFD-B6EE-4F8A-BC18-5FE49D02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E6E2C-1A6A-4981-BE16-81C134A0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3B2FF-1DFC-42FC-97CF-939FA9CF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D7B18-0FB6-4057-B04D-5ACAAA92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89EEA-9AAE-4AD2-BE20-FF05BC20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F1917-3A56-4BF4-BEF9-29744E13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52B-E811-4063-9792-82E1C740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8D4CF-7CCD-48A7-9C98-A24A14C1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FBC46-1BA7-4061-995C-8B8F25ED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A9AA4-6C78-489F-8BC3-401FB598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A6F2B-64F1-4AFC-B5A1-3E44E8B9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35AEC-6B56-47BD-9DDE-E2FC7D3C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C2A53-D688-4903-94D2-9D57F7DE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8C797-B250-4B93-A637-2E432897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8698-C07F-4460-9671-1678D450DD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3A9C-4DF6-4264-B65A-EAA279EFF3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E9FD-7585-4E40-8FAC-ED4CEA540C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3B15-096B-42CB-AB7C-943CDF3F11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7D8F-19B3-44D0-B409-D6A290A5DD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E23D-7E54-4CE7-BC17-CC58A55CEF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8AA1-939E-4291-BBBA-F39BFA25C4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3E92-6552-4F0F-AB4C-5FC4D1FCC3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RCHIVOS EN DISCO: MOTIV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752400" y="523800"/>
          <a:ext cx="77994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23800"/>
                    <a:ext cx="77994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4"/>
          <p:cNvSpPr/>
          <p:nvPr/>
        </p:nvSpPr>
        <p:spPr>
          <a:xfrm>
            <a:off x="533520" y="144792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2"/>
          <p:cNvSpPr/>
          <p:nvPr/>
        </p:nvSpPr>
        <p:spPr>
          <a:xfrm>
            <a:off x="380880" y="106668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550800" y="501480"/>
          <a:ext cx="8167680" cy="55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01480"/>
                    <a:ext cx="816768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577800" y="484200"/>
          <a:ext cx="8458200" cy="74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458200" cy="74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482760" y="417600"/>
          <a:ext cx="8530920" cy="63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17600"/>
                    <a:ext cx="8530920" cy="63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Rectangle 2"/>
          <p:cNvSpPr/>
          <p:nvPr/>
        </p:nvSpPr>
        <p:spPr>
          <a:xfrm>
            <a:off x="304920" y="137160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431640" y="482760"/>
          <a:ext cx="85680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82760"/>
                    <a:ext cx="85680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496800" y="457200"/>
          <a:ext cx="8437680" cy="56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437680" cy="56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368280" y="368280"/>
          <a:ext cx="8661600" cy="70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68280"/>
                    <a:ext cx="8661600" cy="70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4"/>
          <p:cNvSpPr/>
          <p:nvPr/>
        </p:nvSpPr>
        <p:spPr>
          <a:xfrm>
            <a:off x="380880" y="99072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1:57:56Z</dcterms:created>
  <dc:creator>jalvarez</dc:creator>
  <dc:description/>
  <dc:language>en-US</dc:language>
  <cp:lastModifiedBy>Victor Ramiro</cp:lastModifiedBy>
  <cp:lastPrinted>2006-04-04T19:13:56Z</cp:lastPrinted>
  <dcterms:modified xsi:type="dcterms:W3CDTF">2010-04-23T03:26:28Z</dcterms:modified>
  <cp:revision>37</cp:revision>
  <dc:subject/>
  <dc:title>Sin título de diapositiva</dc:title>
</cp:coreProperties>
</file>