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8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98800" y="0"/>
            <a:ext cx="2998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08080" y="686880"/>
            <a:ext cx="468144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900000" y="4427280"/>
            <a:ext cx="509760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0" y="8854560"/>
            <a:ext cx="2998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98800" y="8854560"/>
            <a:ext cx="2998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FADE-EE28-476A-B706-5C5E1C7594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0"/>
            <a:ext cx="2998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389880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5999-4C5C-4D5B-93EE-17153EF4EB3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0808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00000" y="4427280"/>
            <a:ext cx="509760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2998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9880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91D9-CBD3-47C3-8365-79E6399BFC8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808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00000" y="4427280"/>
            <a:ext cx="509760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2998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389880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6A20-B67E-440A-8618-36AE868631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808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00000" y="4427280"/>
            <a:ext cx="509760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BB8-B2CB-4A67-910F-070EEF13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323-11A4-40EB-844C-60E31A2F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B3E-5CD3-44EA-B8CC-2092971C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B2A-1451-470F-A7CB-B883CB7F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45CB-F5A4-4CE8-A5AE-6D4DE194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6DF9-AAAF-4397-A7E9-016E5C80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195D-8388-4592-9F4D-9CE5C2D9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037E-DD1A-4BCB-AE61-03185CD1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90AC-6B5B-4FE8-99DB-DEB0A00A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E0A4-34D0-467F-B96F-A68B3641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6322-1AA8-4F32-BCB0-5953CFCB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EBA-FBE9-4B3E-A638-72A40F32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5B76-FE9A-454E-9589-965DB7B1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E7B8-3671-4057-A2CD-6F7D9C96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3B35-2E25-4D15-9AE6-B81C0979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6530-8F57-4B81-8A3D-60E61EDA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09E8-9D6E-45F7-B446-53F5A362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BD3D5-04EA-4B7A-BA32-129D38D9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A0D4B-1FA0-4632-9E4C-E51805C3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CF3E7-5043-4E4F-8583-A4D8DDEE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39562-BB3C-4A2B-96D4-CC941FEE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0B734-EF47-4729-957F-2A819475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7B1-A027-4A9F-BEC1-F9C94B3A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24313-7308-469A-AEA2-A35E80DB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89F7A-6709-43B6-A174-C09072ED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2D8B3-C180-45E2-9597-A42DAAA1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EE098-2F22-4B8A-B38A-D7F8EEF7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C53D1-7DBB-460D-995F-AC55B2BC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F8CA8-3B3A-4BE9-B336-69A1E4DD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BFF0B-22B0-42EC-879C-63CD86ED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6EC41-8589-46FB-B81E-4B8D4AA2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B70D1-72D5-48FE-B834-F1467072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179E4-AF73-4950-BF96-A0C00C55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7EF-868E-4CFB-A5EC-FD211D6A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2237B-CB60-4CD8-98B4-5177BD70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E04EC-F864-4D4D-85F8-774BAEA2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962B5-2EC0-4C20-8BE9-AB5819D2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EB915-148B-41EE-91CD-C839879D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9D570-A254-4433-9371-BDE4FB8E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694F4-E959-4680-B7E4-ED9E3E7C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6ADA8-FDE5-43AD-98C1-5F557295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3EB0-1B34-4461-8952-38650C84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6876A-CED9-4E56-8BDE-38022E00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56A9BD-9D8F-45A0-924D-32C36BAB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936-B793-4AFA-807F-C2278395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3CEBE-849C-4771-8469-3662E741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095FA-94E3-42B2-A4F2-91D50004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A2BB65-25A1-4D14-BDE9-859804C4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81050-D91E-4DF6-8DCB-A53EECE3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3133C-EA18-44FE-8979-926A498A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FA0D4-C3D8-4BF4-BF2E-AF9A4A2C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26036-EF0B-450F-A1E5-74168835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1CB50-90CC-4AD4-8832-A1FC2253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AA38C-710B-420E-BEDE-4011CB8D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E4160-FD33-4867-94D4-EF162764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924-6D02-45C7-962F-98D78530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23DF2-373F-40DC-9B82-FA4C84CB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D76FA-B8A7-4CA5-BA4F-04AC3B98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05F54-BFEC-4B5A-A3CC-AF586A2C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5D83A-3F29-4ADC-B26B-70EB5321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77997-B600-4870-AF21-D008986A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00E416-E462-439C-97EA-B6766547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4627B-94E6-4C97-B393-D5CC5EC5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78F33F-433B-4F7C-9894-4BF915EF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E9C4B-8327-4A2C-B209-0FDDFBC5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D8CCA-2DC0-479C-852F-E7686BDD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26D8-5CBF-47FC-BDEC-57495BBB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6D7067-74F8-4762-BF96-52758835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B462B-5411-4F75-A8E3-EDC2B6D2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CE9BE-02C7-4AF7-804D-B8AF09B9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1F592-C52D-4415-8D22-97E64A5A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AE604-6CA5-4A32-9898-AFA82E38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877C4A-F423-4782-9651-7EB16164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517A8E-637F-4B96-A493-03872D24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C03CD9-C3A7-4325-A819-F5634685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49E98E-318F-4E78-ACD4-1C5A6CF2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8F7D86-B94B-4C0D-AA53-0D82865D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C62-4538-437D-89F5-96DB3789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696AF-CDCF-4FBC-A367-C32ACE8F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8B942C-D5F4-4CA8-821B-A3EB1936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781299-AD22-442B-BFF2-B8F36A61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DF748-3A6A-4864-91C6-2C330F52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39B328-A5B6-4EFF-B40B-7076099C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38172-EA82-438A-8B02-A772FFF6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BF9E3-F37D-4DD7-A6BB-B7F6918F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C4A9E-4023-4029-A5F3-09FFA1E8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5B3A6-BE12-4245-9B85-0AC81D22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8EAA6-F5CC-4CEA-B537-3CF48199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B67-B6A3-4708-BD55-FE449412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6F773-6F57-443E-A516-33FAD9E9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0C823-6380-446F-9E75-3EAF2CCD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52383-6E7E-477A-9788-525EB3D4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FF73B-3ABE-4821-95B2-302FFE5B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0EDD8-F738-4F3C-BDAD-863A350C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BBC19-F618-4E07-941E-FE1C2A44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4B42A-6AE4-46EC-A49D-8BF183F8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F7E5-A9C3-4577-8539-C91AC211D9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1287-BF31-4072-B078-B4707DD436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AFC1-8B55-4F44-A78B-9EACDA54DA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BF30-9486-485C-B33D-EA924880DC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B9F2-AE75-4CC9-8984-3CD6B9D87B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46BA-D92A-4170-AE15-DEBA8B43CD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4784-C4E4-41F3-87B4-35899E6111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DE12-903E-447F-B359-534BC1D735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RCHIVOS EN DISCO: MOTIV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752400" y="523800"/>
          <a:ext cx="77994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23800"/>
                    <a:ext cx="77994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4"/>
          <p:cNvSpPr/>
          <p:nvPr/>
        </p:nvSpPr>
        <p:spPr>
          <a:xfrm>
            <a:off x="533520" y="144792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2"/>
          <p:cNvSpPr/>
          <p:nvPr/>
        </p:nvSpPr>
        <p:spPr>
          <a:xfrm>
            <a:off x="380880" y="106668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550800" y="501480"/>
          <a:ext cx="8167680" cy="55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01480"/>
                    <a:ext cx="816768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577800" y="484200"/>
          <a:ext cx="8458200" cy="74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458200" cy="74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482760" y="417600"/>
          <a:ext cx="8530920" cy="63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17600"/>
                    <a:ext cx="8530920" cy="63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Rectangle 2"/>
          <p:cNvSpPr/>
          <p:nvPr/>
        </p:nvSpPr>
        <p:spPr>
          <a:xfrm>
            <a:off x="304920" y="137160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431640" y="482760"/>
          <a:ext cx="85680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82760"/>
                    <a:ext cx="85680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496800" y="457200"/>
          <a:ext cx="8437680" cy="56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437680" cy="56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368280" y="368280"/>
          <a:ext cx="8661600" cy="70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68280"/>
                    <a:ext cx="8661600" cy="70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4"/>
          <p:cNvSpPr/>
          <p:nvPr/>
        </p:nvSpPr>
        <p:spPr>
          <a:xfrm>
            <a:off x="380880" y="99072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1:57:56Z</dcterms:created>
  <dc:creator>jalvarez</dc:creator>
  <dc:description/>
  <dc:language>en-US</dc:language>
  <cp:lastModifiedBy>Victor Ramiro</cp:lastModifiedBy>
  <cp:lastPrinted>2006-04-04T19:13:56Z</cp:lastPrinted>
  <dcterms:modified xsi:type="dcterms:W3CDTF">2010-04-23T03:26:28Z</dcterms:modified>
  <cp:revision>37</cp:revision>
  <dc:subject/>
  <dc:title>Sin título de diapositiva</dc:title>
</cp:coreProperties>
</file>