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D71-35AF-48A9-ACE1-0D19EF46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8FD-9D5A-4BED-9270-13FE0DEB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341-8DBC-457F-9E3A-4EC13FA1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261-C18C-4383-9188-9CF02AD5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2C5-37CC-4986-9667-FFC5D4C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77F-1499-4046-B416-565637C2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92B-4389-40F4-9CB6-F0FC809C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23A-2689-45E7-847F-366E341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1F8-976E-4E29-89D0-4B628539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179-385E-4831-8AD0-C97D1D1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D52-31D9-4234-869F-CF522B6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29C-DCC3-4FDC-80C6-A19D4CE4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F13B-3049-4AF1-A358-F9E7A1620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4240" y="966960"/>
          <a:ext cx="7145280" cy="52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966960"/>
                    <a:ext cx="71452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04640"/>
          <a:ext cx="819144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4640"/>
                    <a:ext cx="819144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17600"/>
          <a:ext cx="826956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17600"/>
                    <a:ext cx="826956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82760"/>
          <a:ext cx="85089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85089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95360"/>
          <a:ext cx="824256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24256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2040" y="444600"/>
          <a:ext cx="84646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44600"/>
                    <a:ext cx="84646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37760"/>
            <a:ext cx="86421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ibujar un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[]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btener longitud del 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U.readInt(“lado cuadrado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primer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n-2 línea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 i&lt;=n-2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* “ + repetir(“ “,n-2) + ”*“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últim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482760"/>
          <a:ext cx="842004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2004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260280"/>
            <a:ext cx="7772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692280"/>
            <a:ext cx="8137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inverso(“roma”) =“a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palabra capicú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Palab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nt x)//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enPalabras(666) entrega “seis cientos sesenta y se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seInteg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9520" y="809640"/>
          <a:ext cx="7446960" cy="54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809640"/>
                    <a:ext cx="744696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4480" y="522360"/>
          <a:ext cx="768024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522360"/>
                    <a:ext cx="768024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836640"/>
          <a:ext cx="789948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8994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9-04-02T12:10:49Z</dcterms:modified>
  <cp:revision>39</cp:revision>
  <dc:subject/>
  <dc:title>Sin título de diapositiva</dc:title>
</cp:coreProperties>
</file>