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910-9893-4E20-BD77-C8ECBB2F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450-CAB7-42E9-894B-E1318C8C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AF6-89B2-4ACD-B830-35687102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C56-0E9D-45A9-9648-1DF62A6F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CE8-8304-432E-9A7F-F9B19C23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95B-A067-4F8A-9E71-E67A6457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A28-0A5A-49EB-8FAB-235232A2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770-DDF6-4503-A8C2-6211B42A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920-0488-4FA8-9137-CC958381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C17-BB53-43FF-8421-D52218C5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9BC-89FD-43A1-949B-B09A5CF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01B-8154-4F21-8D3E-4A8C6322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9067-EE5C-4C1C-901C-C188B4615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4240" y="966960"/>
          <a:ext cx="7145280" cy="52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966960"/>
                    <a:ext cx="71452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04640"/>
          <a:ext cx="819144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4640"/>
                    <a:ext cx="819144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17600"/>
          <a:ext cx="826956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17600"/>
                    <a:ext cx="826956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82760"/>
          <a:ext cx="85089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85089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95360"/>
          <a:ext cx="824256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24256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2040" y="444600"/>
          <a:ext cx="84646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44600"/>
                    <a:ext cx="84646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37760"/>
            <a:ext cx="86421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ibujar un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[]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btener longitud del 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U.readInt(“lado cuadrado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primer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n-2 línea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 i&lt;=n-2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* “ + repetir(“ “,n-2) + ”*“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últim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482760"/>
          <a:ext cx="842004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2004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260280"/>
            <a:ext cx="7772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692280"/>
            <a:ext cx="8137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inverso(“roma”) =“a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palabra capicú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Palab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nt x)//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enPalabras(666) entrega “seis cientos sesenta y se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seInteg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9520" y="809640"/>
          <a:ext cx="7446960" cy="54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809640"/>
                    <a:ext cx="744696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4480" y="522360"/>
          <a:ext cx="768024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522360"/>
                    <a:ext cx="768024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836640"/>
          <a:ext cx="789948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8994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9-04-02T12:10:49Z</dcterms:modified>
  <cp:revision>39</cp:revision>
  <dc:subject/>
  <dc:title>Sin título de diapositiva</dc:title>
</cp:coreProperties>
</file>