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B80-4F26-48E9-9797-A30F850D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74C-A32F-488C-800C-9D228DC6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5C9-D176-44AC-9C13-23EB5FAD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B35-59C5-437A-AB79-AD1978F4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069-67B0-4D4A-BD66-1827C5B3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505-3F78-40BA-ACFF-BB86FD52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4C69-7A6C-4318-A998-35C749ED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B64-3E02-4B9C-A6C5-AA2B6C10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F30-578A-4B6F-B996-62556EB5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0A4-5E13-40D7-983A-9B118A09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F87-4807-4815-A48E-8CC8F996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898-0FEE-4146-9072-0D0D38A7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3B8F-3878-43ED-94B6-C54230655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4240" y="966960"/>
          <a:ext cx="7145280" cy="525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4240" y="966960"/>
                    <a:ext cx="714528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41320" y="222120"/>
          <a:ext cx="8015400" cy="593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222120"/>
                    <a:ext cx="8015400" cy="59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06600" y="816120"/>
          <a:ext cx="8064360" cy="543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816120"/>
                    <a:ext cx="8064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04640"/>
          <a:ext cx="819144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4640"/>
                    <a:ext cx="819144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17600"/>
          <a:ext cx="826956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17600"/>
                    <a:ext cx="826956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82760"/>
          <a:ext cx="8508960" cy="66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82760"/>
                    <a:ext cx="8508960" cy="66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95360"/>
          <a:ext cx="824256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95360"/>
                    <a:ext cx="824256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92040" y="444600"/>
          <a:ext cx="846468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444600"/>
                    <a:ext cx="846468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20" y="437760"/>
            <a:ext cx="8642160" cy="59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dibujar un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String[]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obtener longitud del 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=U.readInt(“lado cuadrado?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primer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n-2 líneas intermed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(int i=1; i&lt;=n-2; ++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“* “ + repetir(“ “,n-2) + ”*“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mostrar últim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.println( repetir(“* “,n)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482760"/>
          <a:ext cx="8420040" cy="67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20040" cy="67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4360" y="260280"/>
            <a:ext cx="7772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692280"/>
            <a:ext cx="8137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ve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: inverso(“roma”) =“amo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lindrom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//palabra capicú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indrome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fabet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alfabetico(“hola”)=true, alfabetico(“123”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oole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Váli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válido(“123”,”0123456789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emplaz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,String y,String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reemplazar(“abcde”,”bc”,”BC”)=“aBC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Palab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int x)//de 3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enPalabras(666) entrega “seis cientos sesenta y sei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rseInteg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String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41320" y="915840"/>
          <a:ext cx="7718400" cy="53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915840"/>
                    <a:ext cx="7718400" cy="53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0840" y="444600"/>
          <a:ext cx="8615160" cy="637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4600"/>
                    <a:ext cx="8615160" cy="63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66760" y="843120"/>
          <a:ext cx="723096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843120"/>
                    <a:ext cx="7230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09520" y="809640"/>
          <a:ext cx="7446960" cy="54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809640"/>
                    <a:ext cx="744696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0840" y="630360"/>
          <a:ext cx="758340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630360"/>
                    <a:ext cx="758340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4480" y="522360"/>
          <a:ext cx="768024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4480" y="522360"/>
                    <a:ext cx="768024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42960"/>
          <a:ext cx="5702400" cy="78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42960"/>
                    <a:ext cx="5702400" cy="78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6600" y="692280"/>
          <a:ext cx="8213400" cy="8386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6600" y="692280"/>
                    <a:ext cx="8213400" cy="83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836640"/>
          <a:ext cx="7899480" cy="54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836640"/>
                    <a:ext cx="7899480" cy="54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2:56:39Z</dcterms:created>
  <dc:creator>jalvarez</dc:creator>
  <dc:description/>
  <dc:language>en-US</dc:language>
  <cp:lastModifiedBy>jalvarez</cp:lastModifiedBy>
  <cp:lastPrinted>2006-03-30T20:21:23Z</cp:lastPrinted>
  <dcterms:modified xsi:type="dcterms:W3CDTF">2009-04-02T12:10:49Z</dcterms:modified>
  <cp:revision>39</cp:revision>
  <dc:subject/>
  <dc:title>Sin título de diapositiva</dc:title>
</cp:coreProperties>
</file>