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2E8-487C-4344-A508-D9BA7BE6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05E-5E72-4396-A764-BA6B390E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8A5-DEA7-4C18-98E7-020C4485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96F-4077-4DF8-A2DF-ED4D00D7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209-7D46-40F2-A5F5-4B2FB318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7F1-1D3B-4AC6-B349-C55F9935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1CE-0DCA-4D49-AC78-A81639CB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BE9-7B5B-449F-A046-853A6AB6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647-C031-4213-8D68-57F5B4B1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D28-AE55-4026-9668-01007621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08D-B36B-46EC-8415-B8FF41B8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9DA-D55F-4B82-934D-FF94CDB2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1C89-CC17-4818-B1FE-53F851977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14440" y="495360"/>
          <a:ext cx="815328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532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//factoria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1; //cas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factorial(x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return 1; //cas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factorial(x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=2) return i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(x,y)=c(x-1,y)+c(x-1,y-1); c(x,x)=c(x,0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y || 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s void recur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misterio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n=U.readInt(“nº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n==0) 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;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&gt;0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+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umero,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? en 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&lt;=2? i-1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==y || y==0 ? 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//cuentaRegresiva en pala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“diez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or(int i=9; i&gt;=0; --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Digito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(“\n”); //U.println(“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mbinaciones entre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(int x=0,n=0; x&lt;=9; ++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(int y=x+1; y&lt;=9; ++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//int y=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!=y) U.println(++n +”:”+x +“,“+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1: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2: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º:9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9800" y="330120"/>
          <a:ext cx="8318520" cy="69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30120"/>
                    <a:ext cx="831852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95360" y="419040"/>
          <a:ext cx="819144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19040"/>
                    <a:ext cx="819144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80880"/>
          <a:ext cx="8458200" cy="65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58200" cy="65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inverso=”+d3+d2+d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t d=U.readInt(“¿Cuánto dinero necesita?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U.println(d/20000+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e $20.000”);d=d%2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,println(d/10000+” de $10.000”);d=d%1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5000+” de $5.000”);d=d%5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2000+” de $2.000”);d=d%2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1000+” de $1.000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lineales con ejecución de 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1360" y="1003320"/>
          <a:ext cx="85662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003320"/>
                    <a:ext cx="85662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lineales con ejecución de 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seleccionar mayor entre dos fec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f1=U.readInt(“fecha1(ddmmaaaa)?”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f2=U.readInt(“fecha2(ddmmaaaa)?”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mayor=“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dmmaaaa(Math.max(aaaammdd(f1),aaaammdd(f2))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ddmmaaaa a la forma aaaamm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/1000000, mm=x/10000%100, aaaa=x%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aaaa*10000 + mm*100 + d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aaaammdd a la forma ddmm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%100, mm=x%10000/100, aaaa=x/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dd*1000000 + mm*10000 + aaa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lección instrucciones (if-el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4||m==6||m==9||m==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etición instrucciones (wh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tabla celsius - fahren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g&lt;=40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(double x,int y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==0 &amp;&amp; x==0) U.abortar(“0^0 indefinido”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producto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i=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&lt;=Math.abs(y)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roducto=producto*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&gt;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produc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1/produc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rones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ïnicializar             //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1º                 //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mientras          //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               //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sgte               //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                    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finalizar                //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 U.println(“mayor=“+may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14440" y="495360"/>
          <a:ext cx="8143920" cy="67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43920" cy="67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9-03-31T12:31:19Z</dcterms:modified>
  <cp:revision>55</cp:revision>
  <dc:subject/>
  <dc:title>Diapositiva 1</dc:title>
</cp:coreProperties>
</file>